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carbrake.wav" ContentType="audio/x-wav"/>
  <Override PartName="/ppt/media/image14.jpeg" ContentType="image/jpeg"/>
  <Override PartName="/ppt/media/image8.png" ContentType="image/png"/>
  <Override PartName="/ppt/media/image30.png" ContentType="image/png"/>
  <Override PartName="/ppt/media/image28.jpeg" ContentType="image/jpeg"/>
  <Override PartName="/ppt/media/whoosh.wav" ContentType="audio/x-wav"/>
  <Override PartName="/ppt/media/image29.jpeg" ContentType="image/jpeg"/>
  <Override PartName="/ppt/media/image9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BEB-E317-4E64-97CC-26FDD70A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016-EF20-4121-80BE-73B66C8B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F1F-B111-4977-8353-0B0895CE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3B2-3A8C-4651-8859-D1AD8C32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D3E-83FB-46A9-BB14-98E36746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5EA-5F46-4F25-A66E-8FA0362C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68A-E70B-4BAD-9396-E855D80E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622-8259-4C3F-8F75-22467B39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99D-DF14-4A5F-ABAB-BF0AB4E9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9EF-7B0E-47F4-9A7F-373425C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DA2-ED9D-4FDD-AF38-03A1082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F66-41C9-4B3B-8A1E-3FA9046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EBE3-63FF-4BE6-8955-18FB6FF6D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iritualphotos.com/Animism/pages/KESBR067.htm" TargetMode="External"/><Relationship Id="rId2" Type="http://schemas.openxmlformats.org/officeDocument/2006/relationships/hyperlink" Target="http://www.spiritualphotos.com/Animism/index.htm" TargetMode="External"/><Relationship Id="rId3" Type="http://schemas.openxmlformats.org/officeDocument/2006/relationships/hyperlink" Target="http://www.spiritualphotos.com/Animism/pages/MXCEM005.ht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rtyfactory.com/sitebody/gallery1.htm" TargetMode="External"/><Relationship Id="rId3" Type="http://schemas.openxmlformats.org/officeDocument/2006/relationships/hyperlink" Target="http://www.artyfactory.com/sitebody/information.htm" TargetMode="External"/><Relationship Id="rId4" Type="http://schemas.openxmlformats.org/officeDocument/2006/relationships/hyperlink" Target="http://www.artyfactory.com/sitebody/links.htm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95280" y="1523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2" name="Picture 25" descr="http://homepages.udayton.edu/~martinjg/Religion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6"/>
          <p:cNvSpPr/>
          <p:nvPr/>
        </p:nvSpPr>
        <p:spPr>
          <a:xfrm>
            <a:off x="1523880" y="129528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atura MT Script Capitals"/>
              </a:rPr>
              <a:t>Belief Systems</a:t>
            </a:r>
            <a:endParaRPr b="1" lang="en-US" sz="6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219320" y="457200"/>
            <a:ext cx="6933960" cy="2288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caste system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separated Indian society into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distinct social classes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n which everyone knew their place and believed that if they followed the dharma of their caste, they would be reincarnated into a better cast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1600200" y="2666880"/>
            <a:ext cx="5715000" cy="3657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3886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3581280" y="4038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3124080" y="4724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590920" y="55627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657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Brahmin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657600" y="35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Kshatriy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73392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Vaisya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5812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Sudr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Untouchables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066680" y="6094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ver the centuries Hindu beliefs were recorded into a number of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sacred texts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ncluding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Veda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nd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Upanishads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3" name="Picture 6" descr="http://www.indhistory.com/img/upnishads.jpg"/>
          <p:cNvPicPr/>
          <p:nvPr/>
        </p:nvPicPr>
        <p:blipFill>
          <a:blip r:embed="rId1"/>
          <a:stretch/>
        </p:blipFill>
        <p:spPr>
          <a:xfrm>
            <a:off x="5410080" y="380880"/>
            <a:ext cx="3429000" cy="3407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4" name="Picture 7" descr="C:\Documents and Settings\vcuser.FTN03G126\My Documents\My Pictures\ramayana%20pb.jpg"/>
          <p:cNvPicPr/>
          <p:nvPr/>
        </p:nvPicPr>
        <p:blipFill>
          <a:blip r:embed="rId2"/>
          <a:stretch/>
        </p:blipFill>
        <p:spPr>
          <a:xfrm>
            <a:off x="914400" y="2666880"/>
            <a:ext cx="3048120" cy="3733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5" name="Text Box 8"/>
          <p:cNvSpPr/>
          <p:nvPr/>
        </p:nvSpPr>
        <p:spPr>
          <a:xfrm>
            <a:off x="4952880" y="43434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The Ramayana is a Hindu creation story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1314360" y="-239760"/>
            <a:ext cx="8686800" cy="360"/>
          </a:xfrm>
          <a:prstGeom prst="rect">
            <a:avLst/>
          </a:prstGeom>
          <a:solidFill>
            <a:srgbClr val="35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90000" tIns="-171000" bIns="-171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1314360" y="-239760"/>
            <a:ext cx="8686800" cy="360"/>
          </a:xfrm>
          <a:prstGeom prst="rect">
            <a:avLst/>
          </a:prstGeom>
          <a:solidFill>
            <a:srgbClr val="35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90000" tIns="-171000" bIns="-171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1314360" y="-239760"/>
            <a:ext cx="4411800" cy="360"/>
          </a:xfrm>
          <a:prstGeom prst="rect">
            <a:avLst/>
          </a:prstGeom>
          <a:solidFill>
            <a:srgbClr val="35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90000" tIns="-171000" bIns="-171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9" name="Picture 29" descr="Funeral Hindu cremation ground at Pashupati Nath temple"/>
          <p:cNvPicPr/>
          <p:nvPr/>
        </p:nvPicPr>
        <p:blipFill>
          <a:blip r:embed="rId2"/>
          <a:stretch/>
        </p:blipFill>
        <p:spPr>
          <a:xfrm>
            <a:off x="990720" y="685800"/>
            <a:ext cx="441936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1"/>
          <p:cNvSpPr/>
          <p:nvPr/>
        </p:nvSpPr>
        <p:spPr>
          <a:xfrm>
            <a:off x="5715000" y="1027080"/>
            <a:ext cx="3124080" cy="30200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indus believe the Ganges River is sacred and often wish to be cremated and have their ashes sprinkled in the river upon death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438280" y="45720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atura MT Script Capitals"/>
              </a:rPr>
              <a:t>Buddhism</a:t>
            </a:r>
            <a:endParaRPr b="1" lang="en-US" sz="6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2" name="Picture 8" descr="http://yoda.zoy.org/photos/2002/01-06-Asakusa/01-Buddha-VS-Pigeon.jpg"/>
          <p:cNvPicPr/>
          <p:nvPr/>
        </p:nvPicPr>
        <p:blipFill>
          <a:blip r:embed="rId1"/>
          <a:stretch/>
        </p:blipFill>
        <p:spPr>
          <a:xfrm>
            <a:off x="762120" y="1905120"/>
            <a:ext cx="3182760" cy="4343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3" name="Picture 10" descr="http://www.travellersworldwide.com/Images2000/photos-thailand/monks.jpg"/>
          <p:cNvPicPr/>
          <p:nvPr/>
        </p:nvPicPr>
        <p:blipFill>
          <a:blip r:embed="rId2"/>
          <a:stretch/>
        </p:blipFill>
        <p:spPr>
          <a:xfrm>
            <a:off x="4191120" y="2133720"/>
            <a:ext cx="4572000" cy="3429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ddhism was founded by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Siddhartha Gautam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n northern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Indi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around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480 BCE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Gautama was born into a wealthy Hindu family, but renounced his wealth to seek spiritual enlighte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1" descr="C:\Documents and Settings\vcuser.FTN03G126\My Documents\My Pictures\Buddha1.gif"/>
          <p:cNvPicPr/>
          <p:nvPr/>
        </p:nvPicPr>
        <p:blipFill>
          <a:blip r:embed="rId1"/>
          <a:stretch/>
        </p:blipFill>
        <p:spPr>
          <a:xfrm>
            <a:off x="711360" y="1295280"/>
            <a:ext cx="3287520" cy="4800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vcuser.FTN03G126\My Documents\My Pictures\aah_ch_map_buddhism.jpg"/>
          <p:cNvPicPr/>
          <p:nvPr/>
        </p:nvPicPr>
        <p:blipFill>
          <a:blip r:embed="rId1"/>
          <a:stretch/>
        </p:blipFill>
        <p:spPr>
          <a:xfrm>
            <a:off x="457200" y="685800"/>
            <a:ext cx="481176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5715000" y="1219320"/>
            <a:ext cx="2971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~Buddhism spread through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cultural diffusion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to eastern Asia, including China, Thailand, Korea and Japan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~In other areas, Buddhism was adapted and took on new form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http://www.kheper.net/topics/Buddhism/Nagarjuna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14300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Buddhism is based on the Four Noble Truth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066680" y="1600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1.  All life is suffering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127160" y="3313080"/>
            <a:ext cx="336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2.  Suffering is caused by desire for things that are illusion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029200" y="15238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3.  The way to eliminate suffering is to eliminate desir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029200" y="36576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4.  Following the Eightfold path will help people to overcome desir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northfieldbuddhists.org/images/ThaiMon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http://hometown.aol.com/fburggraf/images/8foldpath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4"/>
          <p:cNvSpPr/>
          <p:nvPr/>
        </p:nvSpPr>
        <p:spPr>
          <a:xfrm>
            <a:off x="685800" y="1752480"/>
            <a:ext cx="4114800" cy="419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447920" y="2666880"/>
            <a:ext cx="2666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Buddhism like Hinduism: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Reincarnation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Karm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Dharm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029200" y="1828800"/>
            <a:ext cx="3809880" cy="4114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1320" y="2743200"/>
            <a:ext cx="2438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But not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Caste system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Hindu gods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Hindu priesthood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838080" y="380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ddhism has much in common with Hinduism, but important difference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371600" y="685800"/>
            <a:ext cx="6400800" cy="1556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w Cen MT Condensed Extra Bold"/>
              </a:rPr>
              <a:t>What you will learn today</a:t>
            </a:r>
            <a:endParaRPr b="1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457200" y="2762280"/>
            <a:ext cx="8513640" cy="222840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 Condensed Extra Bold"/>
              </a:rPr>
              <a:t>What are the characteristics of major religions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 Condensed Extra Bold"/>
              </a:rPr>
              <a:t>How are they similar and different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 Condensed Extra Bold"/>
              </a:rPr>
              <a:t>How have major religions affected cultur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 Condensed Extra Bold"/>
              </a:rPr>
              <a:t>How have belief systems spread over large areas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1523880" y="838080"/>
            <a:ext cx="6224760" cy="1106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acred Buddhist Tex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784520"/>
            <a:ext cx="9144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5" name="Picture 4" descr="http://www.hakkaministries.org/hakkas/Buddhism.jpg"/>
          <p:cNvPicPr/>
          <p:nvPr/>
        </p:nvPicPr>
        <p:blipFill>
          <a:blip r:embed="rId1"/>
          <a:stretch/>
        </p:blipFill>
        <p:spPr>
          <a:xfrm>
            <a:off x="2666880" y="1752480"/>
            <a:ext cx="3957840" cy="3029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257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ddha did not record his teachings, but after he died, his followers collected them into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Tripitaka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4952880" y="16765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Today’s Tibetan Buddhists are led by the Dalai Lama, who advocates for freedom from China.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6" descr="http://smedia.vermotion.com/media/16551/resources/ResizedDaliLama.jpg"/>
          <p:cNvPicPr/>
          <p:nvPr/>
        </p:nvPicPr>
        <p:blipFill>
          <a:blip r:embed="rId1"/>
          <a:stretch/>
        </p:blipFill>
        <p:spPr>
          <a:xfrm>
            <a:off x="0" y="-68400"/>
            <a:ext cx="4869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752480" y="76212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676520" y="685800"/>
            <a:ext cx="3200400" cy="916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Judaism</a:t>
            </a:r>
            <a:endParaRPr b="1" lang="en-US" sz="5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1" name="Picture 5" descr="http://www.mrdowling.com/images/605judaism.gif"/>
          <p:cNvPicPr/>
          <p:nvPr/>
        </p:nvPicPr>
        <p:blipFill>
          <a:blip r:embed="rId1"/>
          <a:stretch/>
        </p:blipFill>
        <p:spPr>
          <a:xfrm>
            <a:off x="609480" y="2743200"/>
            <a:ext cx="3932280" cy="358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http://library.thinkquest.org/28505/judaism/images/intro1.jpg"/>
          <p:cNvPicPr/>
          <p:nvPr/>
        </p:nvPicPr>
        <p:blipFill>
          <a:blip r:embed="rId2"/>
          <a:stretch/>
        </p:blipFill>
        <p:spPr>
          <a:xfrm>
            <a:off x="5410080" y="2209680"/>
            <a:ext cx="2925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295280" y="380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Judaism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riginated in the Middle East around 2000 BCE.  According to Jewish traditio, God chose the Hebrews and helped them to escape slavery in Egypt.  Judaism was one of the first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onotheistic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religion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4" name="Picture 4" descr="http://www.surferscentralsynagoguegoldcoast.com/assets/ART/about-judaism-chart1.gif"/>
          <p:cNvPicPr/>
          <p:nvPr/>
        </p:nvPicPr>
        <p:blipFill>
          <a:blip r:embed="rId1"/>
          <a:stretch/>
        </p:blipFill>
        <p:spPr>
          <a:xfrm>
            <a:off x="1143000" y="2835360"/>
            <a:ext cx="70866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905120" y="457200"/>
            <a:ext cx="5638680" cy="642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Basic Beliefs of Judaism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1828800"/>
            <a:ext cx="4343400" cy="4247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~The </a:t>
            </a: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Torah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is a sacred scripture recording laws and events in Jewish history.  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~The Old Testament of the Bible includes the Torah.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7" name="Picture 7" descr="http://tbn0.google.com/images?q=tbn:ad3SLwDMwPd4yM:http://www.mesorahcenter.com/graphics/foregr/torah.logo.50.gif"/>
          <p:cNvPicPr/>
          <p:nvPr/>
        </p:nvPicPr>
        <p:blipFill>
          <a:blip r:embed="rId1"/>
          <a:stretch/>
        </p:blipFill>
        <p:spPr>
          <a:xfrm>
            <a:off x="5257800" y="2286000"/>
            <a:ext cx="3133800" cy="3276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80880" y="533520"/>
            <a:ext cx="4038840" cy="5709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~God gave Hebrews the </a:t>
            </a: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10 Commandments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through Moses.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~The Ten Commandments describe how people should behave toward God and one another.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9" name="Picture 4" descr="http://www.catholicsupply.com/christmas/_borders/26733.jpg"/>
          <p:cNvPicPr/>
          <p:nvPr/>
        </p:nvPicPr>
        <p:blipFill>
          <a:blip r:embed="rId1"/>
          <a:stretch/>
        </p:blipFill>
        <p:spPr>
          <a:xfrm>
            <a:off x="4648320" y="1523880"/>
            <a:ext cx="4182840" cy="4172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90720" y="1143000"/>
            <a:ext cx="358128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God made a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covenant,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r promise to Abraham to be the  God of the Hebrew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105520" y="1143000"/>
            <a:ext cx="350496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Judaism had a great influence on the later development of Christianity and Islam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62" name="Picture 10" descr="http://www.icaj.nl/nieuwsbrief/okt2002/images/covenant4.jpg"/>
          <p:cNvPicPr/>
          <p:nvPr/>
        </p:nvPicPr>
        <p:blipFill>
          <a:blip r:embed="rId1"/>
          <a:stretch/>
        </p:blipFill>
        <p:spPr>
          <a:xfrm>
            <a:off x="2590920" y="3429000"/>
            <a:ext cx="42670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80880" y="5334120"/>
            <a:ext cx="830592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Jews were discriminated against in the Roman Empire and eventually kicked out of their homeland, Israel, in what is known as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Diaspor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64" name="Picture 3" descr="http://www.hyperhistory.com/online_n2/images_n2/diaspora.gif"/>
          <p:cNvPicPr/>
          <p:nvPr/>
        </p:nvPicPr>
        <p:blipFill>
          <a:blip r:embed="rId1"/>
          <a:srcRect l="0" t="0" r="3193" b="11285"/>
          <a:stretch/>
        </p:blipFill>
        <p:spPr>
          <a:xfrm>
            <a:off x="609480" y="57240"/>
            <a:ext cx="7848720" cy="5200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819520" y="609480"/>
            <a:ext cx="373356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Christianity</a:t>
            </a:r>
            <a:endParaRPr b="1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66" name="Picture 4" descr="http://www.bigfringe.com/christian/biblecross.gif"/>
          <p:cNvPicPr/>
          <p:nvPr/>
        </p:nvPicPr>
        <p:blipFill>
          <a:blip r:embed="rId1"/>
          <a:stretch/>
        </p:blipFill>
        <p:spPr>
          <a:xfrm>
            <a:off x="838080" y="2666880"/>
            <a:ext cx="2468520" cy="2925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67" name="Picture 6" descr="http://www.cuug.ab.ca/~branderr/velazquez/cross.jpg"/>
          <p:cNvPicPr/>
          <p:nvPr/>
        </p:nvPicPr>
        <p:blipFill>
          <a:blip r:embed="rId2"/>
          <a:stretch/>
        </p:blipFill>
        <p:spPr>
          <a:xfrm>
            <a:off x="5181480" y="2209680"/>
            <a:ext cx="2629080" cy="4023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http://www.holystic.com/Teaching_the_Gospel_color.gif"/>
          <p:cNvPicPr/>
          <p:nvPr/>
        </p:nvPicPr>
        <p:blipFill>
          <a:blip r:embed="rId1"/>
          <a:stretch/>
        </p:blipFill>
        <p:spPr>
          <a:xfrm>
            <a:off x="380880" y="1676520"/>
            <a:ext cx="2525760" cy="3108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9" name="Text Box 2"/>
          <p:cNvSpPr/>
          <p:nvPr/>
        </p:nvSpPr>
        <p:spPr>
          <a:xfrm>
            <a:off x="3048120" y="228600"/>
            <a:ext cx="5867280" cy="6311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Christianity originated from Judaism about 30 CE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Christians believe that Jesus was a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essiah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, or savior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Sent by God to bring eternal life to anyone who would follow him.  Jesus accepted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Ten Commandments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and also preached equality of man before God.  The sacred text of Christianity is 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Bible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  Although the Romans originally felt threatened by the Christians, and therefore allowed Jesus to be crucified, Christianity eventually became the official religion of the Roman Empir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666880" y="457200"/>
            <a:ext cx="3810240" cy="100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Matura MT Script Capitals"/>
              </a:rPr>
              <a:t>Animism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28600" y="2057400"/>
            <a:ext cx="4876920" cy="11912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Animism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s the belief that all living and nonliving things in nature have a spirit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28600" y="3581280"/>
            <a:ext cx="487692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imism was the belief system of man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early civilization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509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16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51" name="Group 14"/>
          <p:cNvGrpSpPr/>
          <p:nvPr/>
        </p:nvGrpSpPr>
        <p:grpSpPr>
          <a:xfrm>
            <a:off x="3429000" y="1697040"/>
            <a:ext cx="2286000" cy="457200"/>
            <a:chOff x="3429000" y="1697040"/>
            <a:chExt cx="2286000" cy="457200"/>
          </a:xfrm>
        </p:grpSpPr>
        <p:sp>
          <p:nvSpPr>
            <p:cNvPr id="52" name="Rectangle 8"/>
            <p:cNvSpPr/>
            <p:nvPr/>
          </p:nvSpPr>
          <p:spPr>
            <a:xfrm>
              <a:off x="3429000" y="169704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1"/>
                </a:rPr>
                <a:t>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</a:t>
              </a:r>
              <a:endParaRPr b="1" lang="en-US" sz="24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4191120" y="169704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2"/>
                </a:rPr>
                <a:t>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</a:t>
              </a:r>
              <a:endParaRPr b="1" lang="en-US" sz="24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4952880" y="169704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3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</a:t>
              </a:r>
              <a:endParaRPr b="1" lang="en-US" sz="24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sp>
        <p:nvSpPr>
          <p:cNvPr id="55" name="Rectangle 17"/>
          <p:cNvSpPr/>
          <p:nvPr/>
        </p:nvSpPr>
        <p:spPr>
          <a:xfrm>
            <a:off x="0" y="465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6" name="Picture 16" descr="KESBR077"/>
          <p:cNvPicPr/>
          <p:nvPr/>
        </p:nvPicPr>
        <p:blipFill>
          <a:blip r:embed="rId4"/>
          <a:srcRect l="17872" t="0" r="15645" b="0"/>
          <a:stretch/>
        </p:blipFill>
        <p:spPr>
          <a:xfrm>
            <a:off x="5334120" y="2057400"/>
            <a:ext cx="3581280" cy="3886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200400" y="457200"/>
            <a:ext cx="2362320" cy="1008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Rounded MT Bold"/>
              </a:rPr>
              <a:t>Islam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71" name="Picture 4" descr="http://www.wisegorilla.com/images/islamic/islam.jpg"/>
          <p:cNvPicPr/>
          <p:nvPr/>
        </p:nvPicPr>
        <p:blipFill>
          <a:blip r:embed="rId1"/>
          <a:stretch/>
        </p:blipFill>
        <p:spPr>
          <a:xfrm>
            <a:off x="304920" y="2305080"/>
            <a:ext cx="3886200" cy="3886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2" name="Picture 6" descr="http://www.theharmonyproject.org/images/Islam-534.jpg"/>
          <p:cNvPicPr/>
          <p:nvPr/>
        </p:nvPicPr>
        <p:blipFill>
          <a:blip r:embed="rId2"/>
          <a:stretch/>
        </p:blipFill>
        <p:spPr>
          <a:xfrm>
            <a:off x="5334120" y="1905120"/>
            <a:ext cx="2965320" cy="4556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57200" y="685800"/>
            <a:ext cx="3429000" cy="5639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Islam originated in the Middle East around 622 CE with the Prophet,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Muhammad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.  Muhammad was born in Mecca and traveled to Medina in a journey called the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hijra,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that became the founding of Islam.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257800" y="914400"/>
            <a:ext cx="3048120" cy="4786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Muslim worshippers follow scriptures called the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Quran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, or Koran.  The collection of Islamic laws is also known as the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Sharia.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http://www.ifrance.com/neo95/Yeni%20Mosque,%20Istanbul,%20Turk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2362320" y="457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ive Pillars of Islam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905120"/>
            <a:ext cx="7162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Faith in one God, Allah—monotheism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Five times daily prayer toward Mecca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Help for the poor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Fasting during the holy month of Ramada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Pilgrimage to holy city of Mecca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62120" y="0"/>
            <a:ext cx="7543800" cy="1130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Spread of Islam--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In the 150 years following the death of Muhammad, Islam spread through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trade, missionaries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conquest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into Asia and Africa.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79" name="Picture 4" descr="http://www.uwgb.edu/dutchs/GRAPHIC1/HISTSCI/IslamGrow1.gif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4881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66680" y="457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Questions: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1143000"/>
            <a:ext cx="8001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hat do all these belief systems have in common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hich three all originated in the Middle East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hich two originated in India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hich religion gave rise to the caste system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ow do religions spread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ow are Hinduism and Buddhism alike and different?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80880" y="380880"/>
            <a:ext cx="4724640" cy="5946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imism dates back to earliest humans and still exists.  It can be practiced by anyone who believes in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spirituality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, but does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not proscribe to an organized religion.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Animist gods and beliefs often explain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 natural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arthly things.  The presence of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oly men or women, visions, trances, dancing, sacred items and place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are often characteristic of animist societies.  Animism exists in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traditional African, Asian, American and Aboriginal cultures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" name="Picture 4" descr="http://www.infomekong.com/images/p_grou3.gif"/>
          <p:cNvPicPr/>
          <p:nvPr/>
        </p:nvPicPr>
        <p:blipFill>
          <a:blip r:embed="rId1"/>
          <a:stretch/>
        </p:blipFill>
        <p:spPr>
          <a:xfrm>
            <a:off x="5791320" y="228600"/>
            <a:ext cx="2819160" cy="2819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grpSp>
        <p:nvGrpSpPr>
          <p:cNvPr id="59" name="Group 32"/>
          <p:cNvGrpSpPr/>
          <p:nvPr/>
        </p:nvGrpSpPr>
        <p:grpSpPr>
          <a:xfrm>
            <a:off x="2584440" y="747720"/>
            <a:ext cx="3975120" cy="5467680"/>
            <a:chOff x="2584440" y="747720"/>
            <a:chExt cx="3975120" cy="5467680"/>
          </a:xfrm>
        </p:grpSpPr>
        <p:grpSp>
          <p:nvGrpSpPr>
            <p:cNvPr id="60" name="Group 27"/>
            <p:cNvGrpSpPr/>
            <p:nvPr/>
          </p:nvGrpSpPr>
          <p:grpSpPr>
            <a:xfrm>
              <a:off x="2584440" y="747720"/>
              <a:ext cx="946080" cy="5467680"/>
              <a:chOff x="2584440" y="747720"/>
              <a:chExt cx="946080" cy="5467680"/>
            </a:xfrm>
          </p:grpSpPr>
          <p:sp>
            <p:nvSpPr>
              <p:cNvPr id="61" name="Rectangle 5"/>
              <p:cNvSpPr/>
              <p:nvPr/>
            </p:nvSpPr>
            <p:spPr>
              <a:xfrm>
                <a:off x="2584440" y="747720"/>
                <a:ext cx="857160" cy="39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Rounded MT Bold"/>
                </a:endParaRPr>
              </a:p>
            </p:txBody>
          </p:sp>
          <p:grpSp>
            <p:nvGrpSpPr>
              <p:cNvPr id="62" name="Group 26"/>
              <p:cNvGrpSpPr/>
              <p:nvPr/>
            </p:nvGrpSpPr>
            <p:grpSpPr>
              <a:xfrm>
                <a:off x="2584440" y="747720"/>
                <a:ext cx="946080" cy="5467680"/>
                <a:chOff x="2584440" y="747720"/>
                <a:chExt cx="946080" cy="5467680"/>
              </a:xfrm>
            </p:grpSpPr>
            <p:grpSp>
              <p:nvGrpSpPr>
                <p:cNvPr id="63" name="Group 9"/>
                <p:cNvGrpSpPr/>
                <p:nvPr/>
              </p:nvGrpSpPr>
              <p:grpSpPr>
                <a:xfrm>
                  <a:off x="2584440" y="747720"/>
                  <a:ext cx="946080" cy="1180440"/>
                  <a:chOff x="2584440" y="747720"/>
                  <a:chExt cx="946080" cy="1180440"/>
                </a:xfrm>
              </p:grpSpPr>
              <p:sp>
                <p:nvSpPr>
                  <p:cNvPr id="64" name="Rectangle 6"/>
                  <p:cNvSpPr/>
                  <p:nvPr/>
                </p:nvSpPr>
                <p:spPr>
                  <a:xfrm>
                    <a:off x="2584440" y="74772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65" name="Rectangle 7"/>
                  <p:cNvSpPr/>
                  <p:nvPr/>
                </p:nvSpPr>
                <p:spPr>
                  <a:xfrm>
                    <a:off x="2584440" y="747720"/>
                    <a:ext cx="946080" cy="118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 u="sng">
                        <a:solidFill>
                          <a:srgbClr val="ccccff"/>
                        </a:solidFill>
                        <a:uFillTx/>
                        <a:latin typeface="Arial Rounded MT Bold"/>
                        <a:hlinkClick r:id="rId2"/>
                      </a:rPr>
                      <a:t>  </a:t>
                    </a:r>
                    <a:r>
                      <a:rPr b="1" lang="en-US" sz="4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      </a:t>
                    </a: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  <p:grpSp>
              <p:nvGrpSpPr>
                <p:cNvPr id="66" name="Group 13"/>
                <p:cNvGrpSpPr/>
                <p:nvPr/>
              </p:nvGrpSpPr>
              <p:grpSpPr>
                <a:xfrm>
                  <a:off x="2584440" y="1874880"/>
                  <a:ext cx="946080" cy="753840"/>
                  <a:chOff x="2584440" y="1874880"/>
                  <a:chExt cx="946080" cy="753840"/>
                </a:xfrm>
              </p:grpSpPr>
              <p:sp>
                <p:nvSpPr>
                  <p:cNvPr id="67" name="Rectangle 10"/>
                  <p:cNvSpPr/>
                  <p:nvPr/>
                </p:nvSpPr>
                <p:spPr>
                  <a:xfrm>
                    <a:off x="2584440" y="187488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68" name="Rectangle 11"/>
                  <p:cNvSpPr/>
                  <p:nvPr/>
                </p:nvSpPr>
                <p:spPr>
                  <a:xfrm>
                    <a:off x="2584440" y="1874880"/>
                    <a:ext cx="9460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 u="sng">
                        <a:solidFill>
                          <a:srgbClr val="ccccff"/>
                        </a:solidFill>
                        <a:uFillTx/>
                        <a:latin typeface="Arial Rounded MT Bold"/>
                        <a:hlinkClick r:id="rId3"/>
                      </a:rPr>
                      <a:t> </a:t>
                    </a: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  <p:grpSp>
              <p:nvGrpSpPr>
                <p:cNvPr id="69" name="Group 17"/>
                <p:cNvGrpSpPr/>
                <p:nvPr/>
              </p:nvGrpSpPr>
              <p:grpSpPr>
                <a:xfrm>
                  <a:off x="2584440" y="3002040"/>
                  <a:ext cx="946080" cy="753840"/>
                  <a:chOff x="2584440" y="3002040"/>
                  <a:chExt cx="946080" cy="753840"/>
                </a:xfrm>
              </p:grpSpPr>
              <p:sp>
                <p:nvSpPr>
                  <p:cNvPr id="70" name="Rectangle 14"/>
                  <p:cNvSpPr/>
                  <p:nvPr/>
                </p:nvSpPr>
                <p:spPr>
                  <a:xfrm>
                    <a:off x="2584440" y="300204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71" name="Rectangle 15"/>
                  <p:cNvSpPr/>
                  <p:nvPr/>
                </p:nvSpPr>
                <p:spPr>
                  <a:xfrm>
                    <a:off x="2584440" y="3002040"/>
                    <a:ext cx="946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    </a:t>
                    </a: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  <p:grpSp>
              <p:nvGrpSpPr>
                <p:cNvPr id="72" name="Group 21"/>
                <p:cNvGrpSpPr/>
                <p:nvPr/>
              </p:nvGrpSpPr>
              <p:grpSpPr>
                <a:xfrm>
                  <a:off x="2584440" y="4129200"/>
                  <a:ext cx="946080" cy="764280"/>
                  <a:chOff x="2584440" y="4129200"/>
                  <a:chExt cx="946080" cy="764280"/>
                </a:xfrm>
              </p:grpSpPr>
              <p:sp>
                <p:nvSpPr>
                  <p:cNvPr id="73" name="Rectangle 18"/>
                  <p:cNvSpPr/>
                  <p:nvPr/>
                </p:nvSpPr>
                <p:spPr>
                  <a:xfrm>
                    <a:off x="2584440" y="412920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74" name="Rectangle 19"/>
                  <p:cNvSpPr/>
                  <p:nvPr/>
                </p:nvSpPr>
                <p:spPr>
                  <a:xfrm>
                    <a:off x="2584440" y="4129200"/>
                    <a:ext cx="94608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      </a:t>
                    </a: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  <p:grpSp>
              <p:nvGrpSpPr>
                <p:cNvPr id="75" name="Group 25"/>
                <p:cNvGrpSpPr/>
                <p:nvPr/>
              </p:nvGrpSpPr>
              <p:grpSpPr>
                <a:xfrm>
                  <a:off x="2584440" y="5256000"/>
                  <a:ext cx="851040" cy="959400"/>
                  <a:chOff x="2584440" y="5256000"/>
                  <a:chExt cx="851040" cy="959400"/>
                </a:xfrm>
              </p:grpSpPr>
              <p:sp>
                <p:nvSpPr>
                  <p:cNvPr id="76" name="Rectangle 22"/>
                  <p:cNvSpPr/>
                  <p:nvPr/>
                </p:nvSpPr>
                <p:spPr>
                  <a:xfrm>
                    <a:off x="2584440" y="5256000"/>
                    <a:ext cx="743040" cy="75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77" name="Rectangle 23"/>
                  <p:cNvSpPr/>
                  <p:nvPr/>
                </p:nvSpPr>
                <p:spPr>
                  <a:xfrm>
                    <a:off x="2584440" y="5256000"/>
                    <a:ext cx="851040" cy="9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 u="sng">
                        <a:solidFill>
                          <a:srgbClr val="ccccff"/>
                        </a:solidFill>
                        <a:uFillTx/>
                        <a:latin typeface="Arial Rounded MT Bold"/>
                        <a:hlinkClick r:id="rId4"/>
                      </a:rPr>
                      <a:t>  </a:t>
                    </a:r>
                    <a:r>
                      <a:rPr b="1" lang="en-US" sz="44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</a:t>
                    </a:r>
                    <a:r>
                      <a:rPr b="1" lang="en-US" sz="600" spc="-1" strike="noStrike">
                        <a:solidFill>
                          <a:srgbClr val="ffffff"/>
                        </a:solidFill>
                        <a:latin typeface="Arial Rounded MT Bold"/>
                      </a:rPr>
                      <a:t>                                </a:t>
                    </a:r>
                    <a:endParaRPr b="1" lang="en-US" sz="600" spc="-1" strike="noStrike">
                      <a:solidFill>
                        <a:srgbClr val="ffffff"/>
                      </a:solidFill>
                      <a:latin typeface="Arial Rounded MT Bold"/>
                    </a:endParaRPr>
                  </a:p>
                </p:txBody>
              </p:sp>
            </p:grpSp>
          </p:grpSp>
        </p:grpSp>
        <p:grpSp>
          <p:nvGrpSpPr>
            <p:cNvPr id="78" name="Group 31"/>
            <p:cNvGrpSpPr/>
            <p:nvPr/>
          </p:nvGrpSpPr>
          <p:grpSpPr>
            <a:xfrm>
              <a:off x="3530520" y="747720"/>
              <a:ext cx="3029040" cy="4025160"/>
              <a:chOff x="3530520" y="747720"/>
              <a:chExt cx="3029040" cy="4025160"/>
            </a:xfrm>
          </p:grpSpPr>
          <p:sp>
            <p:nvSpPr>
              <p:cNvPr id="79" name="Rectangle 28"/>
              <p:cNvSpPr/>
              <p:nvPr/>
            </p:nvSpPr>
            <p:spPr>
              <a:xfrm>
                <a:off x="3530520" y="747720"/>
                <a:ext cx="2857680" cy="39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Rounded MT Bold"/>
                </a:endParaRPr>
              </a:p>
            </p:txBody>
          </p:sp>
          <p:sp>
            <p:nvSpPr>
              <p:cNvPr id="80" name="Rectangle 29"/>
              <p:cNvSpPr/>
              <p:nvPr/>
            </p:nvSpPr>
            <p:spPr>
              <a:xfrm>
                <a:off x="3530520" y="747720"/>
                <a:ext cx="3029040" cy="40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Rounded MT Bold"/>
                  </a:rPr>
                  <a:t>  </a:t>
                </a:r>
                <a:r>
                  <a:rPr b="1" lang="en-US" sz="23000" spc="-1" strike="noStrike">
                    <a:solidFill>
                      <a:srgbClr val="ffffff"/>
                    </a:solidFill>
                    <a:latin typeface="Arial Rounded MT Bold"/>
                  </a:rPr>
                  <a:t> 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 Rounded MT Bold"/>
                  </a:rPr>
                  <a:t>                                                            </a:t>
                </a:r>
                <a:endParaRPr b="1" lang="en-US" sz="1400" spc="-1" strike="noStrike">
                  <a:solidFill>
                    <a:srgbClr val="ffffff"/>
                  </a:solidFill>
                  <a:latin typeface="Arial Rounded MT Bold"/>
                </a:endParaRPr>
              </a:p>
            </p:txBody>
          </p:sp>
        </p:grpSp>
      </p:grpSp>
      <p:pic>
        <p:nvPicPr>
          <p:cNvPr id="81" name="Picture 30" descr="African Mask: Biombo Mask"/>
          <p:cNvPicPr/>
          <p:nvPr/>
        </p:nvPicPr>
        <p:blipFill>
          <a:blip r:embed="rId5"/>
          <a:stretch/>
        </p:blipFill>
        <p:spPr>
          <a:xfrm>
            <a:off x="5791320" y="3276720"/>
            <a:ext cx="27651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0" y="685800"/>
            <a:ext cx="4724280" cy="2531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radley Hand ITC"/>
              </a:rPr>
              <a:t>Hinduism</a:t>
            </a:r>
            <a:endParaRPr b="1" lang="en-US" sz="8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83" name="Picture 4" descr="INGUR005"/>
          <p:cNvPicPr/>
          <p:nvPr/>
        </p:nvPicPr>
        <p:blipFill>
          <a:blip r:embed="rId1"/>
          <a:stretch/>
        </p:blipFill>
        <p:spPr>
          <a:xfrm>
            <a:off x="1447920" y="2438280"/>
            <a:ext cx="6297480" cy="4149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380880"/>
            <a:ext cx="4206960" cy="2288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Hinduism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as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no single founder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, but originated from the mixing of Harappan and Aryan cultures in ancient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India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round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3000 BCE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952880" y="4191120"/>
            <a:ext cx="3810240" cy="2288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indus believe in one unifying spirit,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Brahman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   Brahman can manifest in many,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polytheistic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, forms or in one,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onotheistic.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86" name="Picture 5" descr="C:\Documents and Settings\vcuser.FTN03G126\My Documents\My Pictures\goddess_family.jpg"/>
          <p:cNvPicPr/>
          <p:nvPr/>
        </p:nvPicPr>
        <p:blipFill>
          <a:blip r:embed="rId1"/>
          <a:stretch/>
        </p:blipFill>
        <p:spPr>
          <a:xfrm>
            <a:off x="582480" y="2971800"/>
            <a:ext cx="3532320" cy="3657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7" name="Picture 11" descr="http://www.tokyo.afosr.af.mil/Pictures/India%20map.jpg"/>
          <p:cNvPicPr/>
          <p:nvPr/>
        </p:nvPicPr>
        <p:blipFill>
          <a:blip r:embed="rId2"/>
          <a:stretch/>
        </p:blipFill>
        <p:spPr>
          <a:xfrm>
            <a:off x="5334120" y="457200"/>
            <a:ext cx="2896920" cy="3124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304920"/>
            <a:ext cx="3810240" cy="4117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Hinduism is based on the concept of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reincarnation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(Spirits return to earth many times in different forms trying to become one with Brahman).  The soul moves up or down a hierarchy depending on their behavior in life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952880" y="2286000"/>
            <a:ext cx="3886200" cy="4117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 person moves closer to Brahman by obeying the law of karma. 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Karm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is the sum of all your deeds, good and bad.  Good deeds involve following your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dharma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, or duties dependent on your position, gender and occupation.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0" name="Picture 6" descr="http://www.thesacredsite.com/images/airsymbolsmall.GIF"/>
          <p:cNvPicPr/>
          <p:nvPr/>
        </p:nvPicPr>
        <p:blipFill>
          <a:blip r:embed="rId1"/>
          <a:stretch/>
        </p:blipFill>
        <p:spPr>
          <a:xfrm>
            <a:off x="5715000" y="228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indus bathing in the holy Ganges"/>
          <p:cNvPicPr/>
          <p:nvPr/>
        </p:nvPicPr>
        <p:blipFill>
          <a:blip r:embed="rId2"/>
          <a:stretch/>
        </p:blipFill>
        <p:spPr>
          <a:xfrm>
            <a:off x="609480" y="4267080"/>
            <a:ext cx="3505320" cy="2286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ttp://codesign.scu.edu/hinduism/images/KarmaCartoon.gif"/>
          <p:cNvPicPr/>
          <p:nvPr/>
        </p:nvPicPr>
        <p:blipFill>
          <a:blip r:embed="rId1"/>
          <a:stretch/>
        </p:blipFill>
        <p:spPr>
          <a:xfrm>
            <a:off x="215100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646200"/>
            <a:ext cx="8382240" cy="192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caste system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(outlawed since 1948) was an important part of Hinduism.  Castes are social classes into which a person is born and lives their entire life.  If a person has a good karma they may be reincarnated into a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higher caste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.  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609480" y="304812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This lif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6172200" y="304812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Next lif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Oval 7"/>
          <p:cNvSpPr/>
          <p:nvPr/>
        </p:nvSpPr>
        <p:spPr>
          <a:xfrm>
            <a:off x="685800" y="4572000"/>
            <a:ext cx="1676520" cy="1752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orn into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 cast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3200400" y="4191120"/>
            <a:ext cx="2209680" cy="1143000"/>
          </a:xfrm>
          <a:prstGeom prst="rightArrow">
            <a:avLst>
              <a:gd name="adj1" fmla="val 50000"/>
              <a:gd name="adj2" fmla="val 483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Rounded MT Bold"/>
              </a:rPr>
              <a:t>Good Karm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3200400" y="5562720"/>
            <a:ext cx="2209680" cy="1066680"/>
          </a:xfrm>
          <a:prstGeom prst="rightArrow">
            <a:avLst>
              <a:gd name="adj1" fmla="val 50000"/>
              <a:gd name="adj2" fmla="val 5178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ad Karma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5943600" y="4267080"/>
            <a:ext cx="21337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Rounded MT Bold"/>
              </a:rPr>
              <a:t>Higher cast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6019920" y="5638680"/>
            <a:ext cx="2133360" cy="9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ower caste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7:18Z</dcterms:created>
  <dc:creator>vcuser</dc:creator>
  <dc:description/>
  <dc:language>en-US</dc:language>
  <cp:lastModifiedBy>Jessica Taylor</cp:lastModifiedBy>
  <dcterms:modified xsi:type="dcterms:W3CDTF">2013-09-19T11:48:17Z</dcterms:modified>
  <cp:revision>21</cp:revision>
  <dc:subject/>
  <dc:title>PowerPoint Presentation</dc:title>
</cp:coreProperties>
</file>