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carbrake.wav" ContentType="audio/x-wav"/>
  <Override PartName="/ppt/media/image14.jpeg" ContentType="image/jpeg"/>
  <Override PartName="/ppt/media/image8.png" ContentType="image/png"/>
  <Override PartName="/ppt/media/image30.png" ContentType="image/png"/>
  <Override PartName="/ppt/media/image28.jpeg" ContentType="image/jpeg"/>
  <Override PartName="/ppt/media/whoosh.wav" ContentType="audio/x-wav"/>
  <Override PartName="/ppt/media/image29.jpeg" ContentType="image/jpeg"/>
  <Override PartName="/ppt/media/image9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B3F-3DE0-491C-BB4E-565D3D5C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F17-D6F7-4766-B077-DD073066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247-4B78-49F6-BE20-B61F65EC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3A9-4ACA-4AC9-BB31-A2AF86FA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43B-DC1E-446E-954D-30409DD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DC3-42FC-4654-B893-35B0B40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30F-81A8-4423-84CA-500587E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072-646E-4312-AF0F-4126B364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D14-5680-408A-B31C-93D96798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360-B4C8-4461-9B53-5713312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67D-D009-4752-8101-06A9023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326-5C50-4B9E-971B-916FE3D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904-3CE5-4C5E-B57C-C61D2CFC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iritualphotos.com/Animism/pages/KESBR067.htm" TargetMode="External"/><Relationship Id="rId2" Type="http://schemas.openxmlformats.org/officeDocument/2006/relationships/hyperlink" Target="http://www.spiritualphotos.com/Animism/index.htm" TargetMode="External"/><Relationship Id="rId3" Type="http://schemas.openxmlformats.org/officeDocument/2006/relationships/hyperlink" Target="http://www.spiritualphotos.com/Animism/pages/MXCEM005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yfactory.com/sitebody/gallery1.htm" TargetMode="External"/><Relationship Id="rId3" Type="http://schemas.openxmlformats.org/officeDocument/2006/relationships/hyperlink" Target="http://www.artyfactory.com/sitebody/information.htm" TargetMode="External"/><Relationship Id="rId4" Type="http://schemas.openxmlformats.org/officeDocument/2006/relationships/hyperlink" Target="http://www.artyfactory.com/sitebody/links.htm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952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2" name="Picture 25" descr="http://homepages.udayton.edu/~martinjg/Religion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6"/>
          <p:cNvSpPr/>
          <p:nvPr/>
        </p:nvSpPr>
        <p:spPr>
          <a:xfrm>
            <a:off x="1523880" y="12952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atura MT Script Capitals"/>
              </a:rPr>
              <a:t>Belief Systems</a:t>
            </a:r>
            <a:endParaRPr b="1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457200"/>
            <a:ext cx="6933960" cy="228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aste syste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separated Indian society into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istinct social classe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 which everyone knew their place and believed that if they followed the dharma of their caste, they would be reincarnated into a better cast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600200" y="2666880"/>
            <a:ext cx="5715000" cy="3657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886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5812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124080" y="4724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590920" y="5562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Brahmin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760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Kshatriy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73392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Vaisya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5812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udr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Untouchable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66680" y="6094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ver the centuries Hindu beliefs were recorded into a number of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sacred text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cluding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Veda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Upanishad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3" name="Picture 6" descr="http://www.indhistory.com/img/upnishads.jpg"/>
          <p:cNvPicPr/>
          <p:nvPr/>
        </p:nvPicPr>
        <p:blipFill>
          <a:blip r:embed="rId1"/>
          <a:stretch/>
        </p:blipFill>
        <p:spPr>
          <a:xfrm>
            <a:off x="5410080" y="380880"/>
            <a:ext cx="3429000" cy="3407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4" name="Picture 7" descr="C:\Documents and Settings\vcuser.FTN03G126\My Documents\My Pictures\ramayana%20pb.jpg"/>
          <p:cNvPicPr/>
          <p:nvPr/>
        </p:nvPicPr>
        <p:blipFill>
          <a:blip r:embed="rId2"/>
          <a:stretch/>
        </p:blipFill>
        <p:spPr>
          <a:xfrm>
            <a:off x="914400" y="2666880"/>
            <a:ext cx="3048120" cy="3733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5" name="Text Box 8"/>
          <p:cNvSpPr/>
          <p:nvPr/>
        </p:nvSpPr>
        <p:spPr>
          <a:xfrm>
            <a:off x="4952880" y="43434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Ramayana is a Hindu creation story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1314360" y="-239760"/>
            <a:ext cx="8686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1314360" y="-239760"/>
            <a:ext cx="8686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1314360" y="-239760"/>
            <a:ext cx="4411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9" name="Picture 29" descr="Funeral Hindu cremation ground at Pashupati Nath temple"/>
          <p:cNvPicPr/>
          <p:nvPr/>
        </p:nvPicPr>
        <p:blipFill>
          <a:blip r:embed="rId2"/>
          <a:stretch/>
        </p:blipFill>
        <p:spPr>
          <a:xfrm>
            <a:off x="990720" y="685800"/>
            <a:ext cx="441936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5715000" y="1027080"/>
            <a:ext cx="3124080" cy="3020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s believe the Ganges River is sacred and often wish to be cremated and have their ashes sprinkled in the river upon death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438280" y="45720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atura MT Script Capitals"/>
              </a:rPr>
              <a:t>Buddhism</a:t>
            </a:r>
            <a:endParaRPr b="1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Picture 8" descr="http://yoda.zoy.org/photos/2002/01-06-Asakusa/01-Buddha-VS-Pigeon.jpg"/>
          <p:cNvPicPr/>
          <p:nvPr/>
        </p:nvPicPr>
        <p:blipFill>
          <a:blip r:embed="rId1"/>
          <a:stretch/>
        </p:blipFill>
        <p:spPr>
          <a:xfrm>
            <a:off x="762120" y="1905120"/>
            <a:ext cx="3182760" cy="4343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3" name="Picture 10" descr="http://www.travellersworldwide.com/Images2000/photos-thailand/monks.jpg"/>
          <p:cNvPicPr/>
          <p:nvPr/>
        </p:nvPicPr>
        <p:blipFill>
          <a:blip r:embed="rId2"/>
          <a:stretch/>
        </p:blipFill>
        <p:spPr>
          <a:xfrm>
            <a:off x="4191120" y="2133720"/>
            <a:ext cx="4572000" cy="3429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ism was founded by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Siddhartha Gauta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 northern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ndi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around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480 BC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Gautama was born into a wealthy Hindu family, but renounced his wealth to seek spiritual enlighte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C:\Documents and Settings\vcuser.FTN03G126\My Documents\My Pictures\Buddha1.gif"/>
          <p:cNvPicPr/>
          <p:nvPr/>
        </p:nvPicPr>
        <p:blipFill>
          <a:blip r:embed="rId1"/>
          <a:stretch/>
        </p:blipFill>
        <p:spPr>
          <a:xfrm>
            <a:off x="711360" y="1295280"/>
            <a:ext cx="3287520" cy="4800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vcuser.FTN03G126\My Documents\My Pictures\aah_ch_map_buddhism.jpg"/>
          <p:cNvPicPr/>
          <p:nvPr/>
        </p:nvPicPr>
        <p:blipFill>
          <a:blip r:embed="rId1"/>
          <a:stretch/>
        </p:blipFill>
        <p:spPr>
          <a:xfrm>
            <a:off x="457200" y="685800"/>
            <a:ext cx="481176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715000" y="1219320"/>
            <a:ext cx="2971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Buddhism spread through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ultural diffusio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to eastern Asia, including China, Thailand, Korea and Japan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In other areas, Buddhism was adapted and took on new form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http://www.kheper.net/topics/Buddhism/Nagarjuna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14300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uddhism is based on the Four Noble Truth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0666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.  All life is suffering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127160" y="3313080"/>
            <a:ext cx="336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2.  Suffering is caused by desire for things that are illusion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029200" y="15238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.  The way to eliminate suffering is to eliminate des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029200" y="36576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4.  Following the Eightfold path will help people to overcome des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northfieldbuddhists.org/images/ThaiMon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hometown.aol.com/fburggraf/images/8foldpath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4"/>
          <p:cNvSpPr/>
          <p:nvPr/>
        </p:nvSpPr>
        <p:spPr>
          <a:xfrm>
            <a:off x="685800" y="1752480"/>
            <a:ext cx="4114800" cy="419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47920" y="2666880"/>
            <a:ext cx="2666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Buddhism like Hinduism: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Reincarnation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h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029200" y="1828800"/>
            <a:ext cx="3809880" cy="4114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1320" y="2743200"/>
            <a:ext cx="2438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But not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Caste system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Hindu go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Hindu priesthood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838080" y="380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ism has much in common with Hinduism, but important difference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71600" y="685800"/>
            <a:ext cx="6400800" cy="1556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w Cen MT Condensed Extra Bold"/>
              </a:rPr>
              <a:t>What you will learn today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57200" y="2762280"/>
            <a:ext cx="8513640" cy="222840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What are the characteristics of major religion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are they similar and different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have major religions affected cultur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have belief systems spread over large area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523880" y="838080"/>
            <a:ext cx="6224760" cy="1106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acred Buddhist Tex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784520"/>
            <a:ext cx="9144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Picture 4" descr="http://www.hakkaministries.org/hakkas/Buddhism.jpg"/>
          <p:cNvPicPr/>
          <p:nvPr/>
        </p:nvPicPr>
        <p:blipFill>
          <a:blip r:embed="rId1"/>
          <a:stretch/>
        </p:blipFill>
        <p:spPr>
          <a:xfrm>
            <a:off x="2666880" y="1752480"/>
            <a:ext cx="3957840" cy="3029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257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a did not record his teachings, but after he died, his followers collected them into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Tripitaka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4952880" y="16765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Today’s Tibetan Buddhists are led by the Dalai Lama, who advocates for freedom from China.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6" descr="http://smedia.vermotion.com/media/16551/resources/ResizedDaliLama.jpg"/>
          <p:cNvPicPr/>
          <p:nvPr/>
        </p:nvPicPr>
        <p:blipFill>
          <a:blip r:embed="rId1"/>
          <a:stretch/>
        </p:blipFill>
        <p:spPr>
          <a:xfrm>
            <a:off x="0" y="-68400"/>
            <a:ext cx="4869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752480" y="76212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676520" y="685800"/>
            <a:ext cx="32004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Judaism</a:t>
            </a:r>
            <a:endParaRPr b="1" lang="en-US" sz="5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1" name="Picture 5" descr="http://www.mrdowling.com/images/605judaism.gif"/>
          <p:cNvPicPr/>
          <p:nvPr/>
        </p:nvPicPr>
        <p:blipFill>
          <a:blip r:embed="rId1"/>
          <a:stretch/>
        </p:blipFill>
        <p:spPr>
          <a:xfrm>
            <a:off x="609480" y="2743200"/>
            <a:ext cx="3932280" cy="35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http://library.thinkquest.org/28505/judaism/images/intro1.jpg"/>
          <p:cNvPicPr/>
          <p:nvPr/>
        </p:nvPicPr>
        <p:blipFill>
          <a:blip r:embed="rId2"/>
          <a:stretch/>
        </p:blipFill>
        <p:spPr>
          <a:xfrm>
            <a:off x="5410080" y="2209680"/>
            <a:ext cx="2925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295280" y="380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Judaism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riginated in the Middle East around 2000 BCE.  According to Jewish traditio, God chose the Hebrews and helped them to escape slavery in Egypt.  Judaism was one of the first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onotheistic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religion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4" name="Picture 4" descr="http://www.surferscentralsynagoguegoldcoast.com/assets/ART/about-judaism-chart1.gif"/>
          <p:cNvPicPr/>
          <p:nvPr/>
        </p:nvPicPr>
        <p:blipFill>
          <a:blip r:embed="rId1"/>
          <a:stretch/>
        </p:blipFill>
        <p:spPr>
          <a:xfrm>
            <a:off x="1143000" y="2835360"/>
            <a:ext cx="70866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05120" y="457200"/>
            <a:ext cx="5638680" cy="642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Basic Beliefs of Judaism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828800"/>
            <a:ext cx="4343400" cy="4247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orah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is a sacred scripture recording laws and events in Jewish history.  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Old Testament of the Bible includes the Torah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7" name="Picture 7" descr="http://tbn0.google.com/images?q=tbn:ad3SLwDMwPd4yM:http://www.mesorahcenter.com/graphics/foregr/torah.logo.50.gif"/>
          <p:cNvPicPr/>
          <p:nvPr/>
        </p:nvPicPr>
        <p:blipFill>
          <a:blip r:embed="rId1"/>
          <a:stretch/>
        </p:blipFill>
        <p:spPr>
          <a:xfrm>
            <a:off x="5257800" y="2286000"/>
            <a:ext cx="3133800" cy="3276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80880" y="533520"/>
            <a:ext cx="4038840" cy="5709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God gave Hebrews the 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10 Commandments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through Moses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Ten Commandments describe how people should behave toward God and one another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9" name="Picture 4" descr="http://www.catholicsupply.com/christmas/_borders/26733.jpg"/>
          <p:cNvPicPr/>
          <p:nvPr/>
        </p:nvPicPr>
        <p:blipFill>
          <a:blip r:embed="rId1"/>
          <a:stretch/>
        </p:blipFill>
        <p:spPr>
          <a:xfrm>
            <a:off x="4648320" y="1523880"/>
            <a:ext cx="4182840" cy="417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1143000"/>
            <a:ext cx="358128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God made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ovenant,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r promise to Abraham to be the  God of the Hebrew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105520" y="1143000"/>
            <a:ext cx="350496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Judaism had a great influence on the later development of Christianity and Islam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2" name="Picture 10" descr="http://www.icaj.nl/nieuwsbrief/okt2002/images/covenant4.jpg"/>
          <p:cNvPicPr/>
          <p:nvPr/>
        </p:nvPicPr>
        <p:blipFill>
          <a:blip r:embed="rId1"/>
          <a:stretch/>
        </p:blipFill>
        <p:spPr>
          <a:xfrm>
            <a:off x="2590920" y="3429000"/>
            <a:ext cx="4267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80880" y="5334120"/>
            <a:ext cx="830592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Jews were discriminated against in the Roman Empire and eventually kicked out of their homeland, Israel, in what is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iaspor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4" name="Picture 3" descr="http://www.hyperhistory.com/online_n2/images_n2/diaspora.gif"/>
          <p:cNvPicPr/>
          <p:nvPr/>
        </p:nvPicPr>
        <p:blipFill>
          <a:blip r:embed="rId1"/>
          <a:srcRect l="0" t="0" r="3193" b="11285"/>
          <a:stretch/>
        </p:blipFill>
        <p:spPr>
          <a:xfrm>
            <a:off x="609480" y="57240"/>
            <a:ext cx="7848720" cy="52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819520" y="609480"/>
            <a:ext cx="373356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Christianity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6" name="Picture 4" descr="http://www.bigfringe.com/christian/biblecross.gif"/>
          <p:cNvPicPr/>
          <p:nvPr/>
        </p:nvPicPr>
        <p:blipFill>
          <a:blip r:embed="rId1"/>
          <a:stretch/>
        </p:blipFill>
        <p:spPr>
          <a:xfrm>
            <a:off x="838080" y="2666880"/>
            <a:ext cx="2468520" cy="2925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7" name="Picture 6" descr="http://www.cuug.ab.ca/~branderr/velazquez/cross.jpg"/>
          <p:cNvPicPr/>
          <p:nvPr/>
        </p:nvPicPr>
        <p:blipFill>
          <a:blip r:embed="rId2"/>
          <a:stretch/>
        </p:blipFill>
        <p:spPr>
          <a:xfrm>
            <a:off x="5181480" y="2209680"/>
            <a:ext cx="2629080" cy="4023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www.holystic.com/Teaching_the_Gospel_color.gif"/>
          <p:cNvPicPr/>
          <p:nvPr/>
        </p:nvPicPr>
        <p:blipFill>
          <a:blip r:embed="rId1"/>
          <a:stretch/>
        </p:blipFill>
        <p:spPr>
          <a:xfrm>
            <a:off x="380880" y="1676520"/>
            <a:ext cx="2525760" cy="3108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9" name="Text Box 2"/>
          <p:cNvSpPr/>
          <p:nvPr/>
        </p:nvSpPr>
        <p:spPr>
          <a:xfrm>
            <a:off x="3048120" y="228600"/>
            <a:ext cx="5867280" cy="6311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hristianity originated from Judaism about 30 CE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hristians believe that Jesus was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essiah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or savior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ent by God to bring eternal life to anyone who would follow him.  Jesus accepted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Ten Commandment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and also preached equality of man before God.  The sacred text of Christianity is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ibl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Although the Romans originally felt threatened by the Christians, and therefore allowed Jesus to be crucified, Christianity eventually became the official religion of the Roman Emp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666880" y="457200"/>
            <a:ext cx="3810240" cy="100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atura MT Script Capitals"/>
              </a:rPr>
              <a:t>Animism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8600" y="2057400"/>
            <a:ext cx="4876920" cy="1191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Animis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s the belief that all living and nonliving things in nature have a spirit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8600" y="3581280"/>
            <a:ext cx="487692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ism was the belief system of man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early civilization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50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1" name="Group 14"/>
          <p:cNvGrpSpPr/>
          <p:nvPr/>
        </p:nvGrpSpPr>
        <p:grpSpPr>
          <a:xfrm>
            <a:off x="3429000" y="1697040"/>
            <a:ext cx="2286000" cy="457200"/>
            <a:chOff x="3429000" y="1697040"/>
            <a:chExt cx="2286000" cy="457200"/>
          </a:xfrm>
        </p:grpSpPr>
        <p:sp>
          <p:nvSpPr>
            <p:cNvPr id="52" name="Rectangle 8"/>
            <p:cNvSpPr/>
            <p:nvPr/>
          </p:nvSpPr>
          <p:spPr>
            <a:xfrm>
              <a:off x="3429000" y="16970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1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4191120" y="16970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2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952880" y="16970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3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sp>
        <p:nvSpPr>
          <p:cNvPr id="55" name="Rectangle 17"/>
          <p:cNvSpPr/>
          <p:nvPr/>
        </p:nvSpPr>
        <p:spPr>
          <a:xfrm>
            <a:off x="0" y="465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6" name="Picture 16" descr="KESBR077"/>
          <p:cNvPicPr/>
          <p:nvPr/>
        </p:nvPicPr>
        <p:blipFill>
          <a:blip r:embed="rId4"/>
          <a:srcRect l="17872" t="0" r="15645" b="0"/>
          <a:stretch/>
        </p:blipFill>
        <p:spPr>
          <a:xfrm>
            <a:off x="5334120" y="2057400"/>
            <a:ext cx="3581280" cy="388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200400" y="457200"/>
            <a:ext cx="2362320" cy="100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Islam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71" name="Picture 4" descr="http://www.wisegorilla.com/images/islamic/islam.jpg"/>
          <p:cNvPicPr/>
          <p:nvPr/>
        </p:nvPicPr>
        <p:blipFill>
          <a:blip r:embed="rId1"/>
          <a:stretch/>
        </p:blipFill>
        <p:spPr>
          <a:xfrm>
            <a:off x="304920" y="2305080"/>
            <a:ext cx="3886200" cy="3886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2" name="Picture 6" descr="http://www.theharmonyproject.org/images/Islam-534.jpg"/>
          <p:cNvPicPr/>
          <p:nvPr/>
        </p:nvPicPr>
        <p:blipFill>
          <a:blip r:embed="rId2"/>
          <a:stretch/>
        </p:blipFill>
        <p:spPr>
          <a:xfrm>
            <a:off x="5334120" y="1905120"/>
            <a:ext cx="2965320" cy="45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685800"/>
            <a:ext cx="3429000" cy="56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Islam originated in the Middle East around 622 CE with the Prophet,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Muhammad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.  Muhammad was born in Mecca and traveled to Medina in a journey called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hijra,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that became the founding of Islam.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257800" y="914400"/>
            <a:ext cx="3048120" cy="478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uslim worshippers follow scriptures called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Quran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, or Koran.  The collection of Islamic laws is also known as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Sharia.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http://www.ifrance.com/neo95/Yeni%20Mosque,%20Istanbul,%20Turk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362320" y="4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ive Pillars of Islam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905120"/>
            <a:ext cx="7162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aith in one God, Allah—monotheism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ive times daily prayer toward Mecca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Help for the poor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asting during the holy month of Ramada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Pilgrimage to holy city of Mecca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62120" y="0"/>
            <a:ext cx="7543800" cy="1130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Spread of Islam--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 the 150 years following the death of Muhammad, Islam spread through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trade, missionaries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onquest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to Asia and Africa.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79" name="Picture 4" descr="http://www.uwgb.edu/dutchs/GRAPHIC1/HISTSCI/IslamGrow1.gif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881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66680" y="457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Questions: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11430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at do all these belief systems have in common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three all originated in the Middle East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two originated in India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religion gave rise to the caste system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ow do religions spread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ow are Hinduism and Buddhism alike and different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0880" y="380880"/>
            <a:ext cx="4724640" cy="5946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ism dates back to earliest humans and still exists.  It can be practiced by anyone who believes in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pirituality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but does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ot proscribe to an organized religion.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Animist gods and beliefs often explain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 natural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arthly things.  The presence of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oly men or women, visions, trances, dancing, sacred items and place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re often characteristic of animist societies.  Animism exists in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traditional African, Asian, American and Aboriginal culture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" name="Picture 4" descr="http://www.infomekong.com/images/p_grou3.gif"/>
          <p:cNvPicPr/>
          <p:nvPr/>
        </p:nvPicPr>
        <p:blipFill>
          <a:blip r:embed="rId1"/>
          <a:stretch/>
        </p:blipFill>
        <p:spPr>
          <a:xfrm>
            <a:off x="5791320" y="228600"/>
            <a:ext cx="2819160" cy="2819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grpSp>
        <p:nvGrpSpPr>
          <p:cNvPr id="59" name="Group 32"/>
          <p:cNvGrpSpPr/>
          <p:nvPr/>
        </p:nvGrpSpPr>
        <p:grpSpPr>
          <a:xfrm>
            <a:off x="2584440" y="747720"/>
            <a:ext cx="3975120" cy="5467680"/>
            <a:chOff x="2584440" y="747720"/>
            <a:chExt cx="3975120" cy="5467680"/>
          </a:xfrm>
        </p:grpSpPr>
        <p:grpSp>
          <p:nvGrpSpPr>
            <p:cNvPr id="60" name="Group 27"/>
            <p:cNvGrpSpPr/>
            <p:nvPr/>
          </p:nvGrpSpPr>
          <p:grpSpPr>
            <a:xfrm>
              <a:off x="2584440" y="747720"/>
              <a:ext cx="946080" cy="5467680"/>
              <a:chOff x="2584440" y="747720"/>
              <a:chExt cx="946080" cy="546768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2584440" y="747720"/>
                <a:ext cx="8571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  <p:grpSp>
            <p:nvGrpSpPr>
              <p:cNvPr id="62" name="Group 26"/>
              <p:cNvGrpSpPr/>
              <p:nvPr/>
            </p:nvGrpSpPr>
            <p:grpSpPr>
              <a:xfrm>
                <a:off x="2584440" y="747720"/>
                <a:ext cx="946080" cy="5467680"/>
                <a:chOff x="2584440" y="747720"/>
                <a:chExt cx="946080" cy="5467680"/>
              </a:xfrm>
            </p:grpSpPr>
            <p:grpSp>
              <p:nvGrpSpPr>
                <p:cNvPr id="63" name="Group 9"/>
                <p:cNvGrpSpPr/>
                <p:nvPr/>
              </p:nvGrpSpPr>
              <p:grpSpPr>
                <a:xfrm>
                  <a:off x="2584440" y="747720"/>
                  <a:ext cx="946080" cy="1180440"/>
                  <a:chOff x="2584440" y="747720"/>
                  <a:chExt cx="946080" cy="1180440"/>
                </a:xfrm>
              </p:grpSpPr>
              <p:sp>
                <p:nvSpPr>
                  <p:cNvPr id="64" name="Rectangle 6"/>
                  <p:cNvSpPr/>
                  <p:nvPr/>
                </p:nvSpPr>
                <p:spPr>
                  <a:xfrm>
                    <a:off x="2584440" y="74772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65" name="Rectangle 7"/>
                  <p:cNvSpPr/>
                  <p:nvPr/>
                </p:nvSpPr>
                <p:spPr>
                  <a:xfrm>
                    <a:off x="2584440" y="747720"/>
                    <a:ext cx="946080" cy="118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2"/>
                      </a:rPr>
                      <a:t>  </a:t>
                    </a: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66" name="Group 13"/>
                <p:cNvGrpSpPr/>
                <p:nvPr/>
              </p:nvGrpSpPr>
              <p:grpSpPr>
                <a:xfrm>
                  <a:off x="2584440" y="1874880"/>
                  <a:ext cx="946080" cy="753840"/>
                  <a:chOff x="2584440" y="1874880"/>
                  <a:chExt cx="946080" cy="753840"/>
                </a:xfrm>
              </p:grpSpPr>
              <p:sp>
                <p:nvSpPr>
                  <p:cNvPr id="67" name="Rectangle 10"/>
                  <p:cNvSpPr/>
                  <p:nvPr/>
                </p:nvSpPr>
                <p:spPr>
                  <a:xfrm>
                    <a:off x="2584440" y="187488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68" name="Rectangle 11"/>
                  <p:cNvSpPr/>
                  <p:nvPr/>
                </p:nvSpPr>
                <p:spPr>
                  <a:xfrm>
                    <a:off x="2584440" y="1874880"/>
                    <a:ext cx="94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3"/>
                      </a:rPr>
                      <a:t> 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69" name="Group 17"/>
                <p:cNvGrpSpPr/>
                <p:nvPr/>
              </p:nvGrpSpPr>
              <p:grpSpPr>
                <a:xfrm>
                  <a:off x="2584440" y="3002040"/>
                  <a:ext cx="946080" cy="753840"/>
                  <a:chOff x="2584440" y="3002040"/>
                  <a:chExt cx="946080" cy="753840"/>
                </a:xfrm>
              </p:grpSpPr>
              <p:sp>
                <p:nvSpPr>
                  <p:cNvPr id="70" name="Rectangle 14"/>
                  <p:cNvSpPr/>
                  <p:nvPr/>
                </p:nvSpPr>
                <p:spPr>
                  <a:xfrm>
                    <a:off x="2584440" y="300204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1" name="Rectangle 15"/>
                  <p:cNvSpPr/>
                  <p:nvPr/>
                </p:nvSpPr>
                <p:spPr>
                  <a:xfrm>
                    <a:off x="2584440" y="3002040"/>
                    <a:ext cx="946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72" name="Group 21"/>
                <p:cNvGrpSpPr/>
                <p:nvPr/>
              </p:nvGrpSpPr>
              <p:grpSpPr>
                <a:xfrm>
                  <a:off x="2584440" y="4129200"/>
                  <a:ext cx="946080" cy="764280"/>
                  <a:chOff x="2584440" y="4129200"/>
                  <a:chExt cx="946080" cy="764280"/>
                </a:xfrm>
              </p:grpSpPr>
              <p:sp>
                <p:nvSpPr>
                  <p:cNvPr id="73" name="Rectangle 18"/>
                  <p:cNvSpPr/>
                  <p:nvPr/>
                </p:nvSpPr>
                <p:spPr>
                  <a:xfrm>
                    <a:off x="2584440" y="412920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4" name="Rectangle 19"/>
                  <p:cNvSpPr/>
                  <p:nvPr/>
                </p:nvSpPr>
                <p:spPr>
                  <a:xfrm>
                    <a:off x="2584440" y="4129200"/>
                    <a:ext cx="946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75" name="Group 25"/>
                <p:cNvGrpSpPr/>
                <p:nvPr/>
              </p:nvGrpSpPr>
              <p:grpSpPr>
                <a:xfrm>
                  <a:off x="2584440" y="5256000"/>
                  <a:ext cx="851040" cy="959400"/>
                  <a:chOff x="2584440" y="5256000"/>
                  <a:chExt cx="851040" cy="959400"/>
                </a:xfrm>
              </p:grpSpPr>
              <p:sp>
                <p:nvSpPr>
                  <p:cNvPr id="76" name="Rectangle 22"/>
                  <p:cNvSpPr/>
                  <p:nvPr/>
                </p:nvSpPr>
                <p:spPr>
                  <a:xfrm>
                    <a:off x="2584440" y="525600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7" name="Rectangle 23"/>
                  <p:cNvSpPr/>
                  <p:nvPr/>
                </p:nvSpPr>
                <p:spPr>
                  <a:xfrm>
                    <a:off x="2584440" y="5256000"/>
                    <a:ext cx="851040" cy="9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4"/>
                      </a:rPr>
                      <a:t>  </a:t>
                    </a: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6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                         </a:t>
                    </a:r>
                    <a:endParaRPr b="1" lang="en-US" sz="6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</p:grpSp>
        </p:grpSp>
        <p:grpSp>
          <p:nvGrpSpPr>
            <p:cNvPr id="78" name="Group 31"/>
            <p:cNvGrpSpPr/>
            <p:nvPr/>
          </p:nvGrpSpPr>
          <p:grpSpPr>
            <a:xfrm>
              <a:off x="3530520" y="747720"/>
              <a:ext cx="3029040" cy="4025160"/>
              <a:chOff x="3530520" y="747720"/>
              <a:chExt cx="3029040" cy="4025160"/>
            </a:xfrm>
          </p:grpSpPr>
          <p:sp>
            <p:nvSpPr>
              <p:cNvPr id="79" name="Rectangle 28"/>
              <p:cNvSpPr/>
              <p:nvPr/>
            </p:nvSpPr>
            <p:spPr>
              <a:xfrm>
                <a:off x="3530520" y="747720"/>
                <a:ext cx="285768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  <p:sp>
            <p:nvSpPr>
              <p:cNvPr id="80" name="Rectangle 29"/>
              <p:cNvSpPr/>
              <p:nvPr/>
            </p:nvSpPr>
            <p:spPr>
              <a:xfrm>
                <a:off x="3530520" y="747720"/>
                <a:ext cx="3029040" cy="40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  </a:t>
                </a:r>
                <a:r>
                  <a:rPr b="1" lang="en-US" sz="23000" spc="-1" strike="noStrike">
                    <a:solidFill>
                      <a:srgbClr val="ffffff"/>
                    </a:solidFill>
                    <a:latin typeface="Arial Rounded MT Bold"/>
                  </a:rPr>
                  <a:t> 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                                                            </a:t>
                </a:r>
                <a:endParaRPr b="1" lang="en-US" sz="1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</p:grpSp>
      </p:grpSp>
      <p:pic>
        <p:nvPicPr>
          <p:cNvPr id="81" name="Picture 30" descr="African Mask: Biombo Mask"/>
          <p:cNvPicPr/>
          <p:nvPr/>
        </p:nvPicPr>
        <p:blipFill>
          <a:blip r:embed="rId5"/>
          <a:stretch/>
        </p:blipFill>
        <p:spPr>
          <a:xfrm>
            <a:off x="5791320" y="3276720"/>
            <a:ext cx="2765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0" y="685800"/>
            <a:ext cx="4724280" cy="2531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radley Hand ITC"/>
              </a:rPr>
              <a:t>Hinduism</a:t>
            </a:r>
            <a:endParaRPr b="1" lang="en-US" sz="8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83" name="Picture 4" descr="INGUR005"/>
          <p:cNvPicPr/>
          <p:nvPr/>
        </p:nvPicPr>
        <p:blipFill>
          <a:blip r:embed="rId1"/>
          <a:stretch/>
        </p:blipFill>
        <p:spPr>
          <a:xfrm>
            <a:off x="1447920" y="2438280"/>
            <a:ext cx="6297480" cy="414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380880"/>
            <a:ext cx="4206960" cy="2288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Hinduism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as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no single founder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but originated from the mixing of Harappan and Aryan cultures in ancient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ndia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round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000 BC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952880" y="4191120"/>
            <a:ext cx="3810240" cy="2288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s believe in one unifying spirit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rahma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 Brahman can manifest in many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olytheistic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forms or in one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onotheistic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86" name="Picture 5" descr="C:\Documents and Settings\vcuser.FTN03G126\My Documents\My Pictures\goddess_family.jpg"/>
          <p:cNvPicPr/>
          <p:nvPr/>
        </p:nvPicPr>
        <p:blipFill>
          <a:blip r:embed="rId1"/>
          <a:stretch/>
        </p:blipFill>
        <p:spPr>
          <a:xfrm>
            <a:off x="582480" y="2971800"/>
            <a:ext cx="3532320" cy="36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7" name="Picture 11" descr="http://www.tokyo.afosr.af.mil/Pictures/India%20map.jpg"/>
          <p:cNvPicPr/>
          <p:nvPr/>
        </p:nvPicPr>
        <p:blipFill>
          <a:blip r:embed="rId2"/>
          <a:stretch/>
        </p:blipFill>
        <p:spPr>
          <a:xfrm>
            <a:off x="5334120" y="457200"/>
            <a:ext cx="2896920" cy="3124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304920"/>
            <a:ext cx="3810240" cy="411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ism is based on the concept of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reincarnatio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(Spirits return to earth many times in different forms trying to become one with Brahman).  The soul moves up or down a hierarchy depending on their behavior in life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952880" y="2286000"/>
            <a:ext cx="3886200" cy="411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 person moves closer to Brahman by obeying the law of karma. 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Kar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s the sum of all your deeds, good and bad.  Good deeds involve following your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har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or duties dependent on your position, gender and occupation.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0" name="Picture 6" descr="http://www.thesacredsite.com/images/airsymbolsmall.GIF"/>
          <p:cNvPicPr/>
          <p:nvPr/>
        </p:nvPicPr>
        <p:blipFill>
          <a:blip r:embed="rId1"/>
          <a:stretch/>
        </p:blipFill>
        <p:spPr>
          <a:xfrm>
            <a:off x="57150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indus bathing in the holy Ganges"/>
          <p:cNvPicPr/>
          <p:nvPr/>
        </p:nvPicPr>
        <p:blipFill>
          <a:blip r:embed="rId2"/>
          <a:stretch/>
        </p:blipFill>
        <p:spPr>
          <a:xfrm>
            <a:off x="609480" y="4267080"/>
            <a:ext cx="3505320" cy="2286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ttp://codesign.scu.edu/hinduism/images/KarmaCartoon.gif"/>
          <p:cNvPicPr/>
          <p:nvPr/>
        </p:nvPicPr>
        <p:blipFill>
          <a:blip r:embed="rId1"/>
          <a:stretch/>
        </p:blipFill>
        <p:spPr>
          <a:xfrm>
            <a:off x="2151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646200"/>
            <a:ext cx="8382240" cy="192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aste syste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(outlawed since 1948) was an important part of Hinduism.  Castes are social classes into which a person is born and lives their entire life.  If a person has a good karma they may be reincarnated into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higher cast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09480" y="304812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is lif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6172200" y="30481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ext lif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85800" y="4572000"/>
            <a:ext cx="1676520" cy="1752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orn into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200400" y="4191120"/>
            <a:ext cx="2209680" cy="1143000"/>
          </a:xfrm>
          <a:prstGeom prst="rightArrow">
            <a:avLst>
              <a:gd name="adj1" fmla="val 50000"/>
              <a:gd name="adj2" fmla="val 483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Rounded MT Bold"/>
              </a:rPr>
              <a:t>Good 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200400" y="55627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ad 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5943600" y="4267080"/>
            <a:ext cx="2133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Rounded MT Bold"/>
              </a:rPr>
              <a:t>Higher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6019920" y="5638680"/>
            <a:ext cx="213336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ower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7:18Z</dcterms:created>
  <dc:creator>vcuser</dc:creator>
  <dc:description/>
  <dc:language>en-US</dc:language>
  <cp:lastModifiedBy>Jessica Taylor</cp:lastModifiedBy>
  <dcterms:modified xsi:type="dcterms:W3CDTF">2013-09-19T11:48:17Z</dcterms:modified>
  <cp:revision>21</cp:revision>
  <dc:subject/>
  <dc:title>PowerPoint Presentation</dc:title>
</cp:coreProperties>
</file>