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E955-60F4-4C72-8A77-99210187E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BEAD-78C2-4535-9DD4-183E075D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3676-B257-4092-AA35-27884523A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29F3-1E26-448E-9519-2007AB51A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963D-66BD-4989-9FAB-2C536AE9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C61B-FD51-4B20-80F8-FCA2C280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63D0-5011-48E3-8EE6-8764391A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8554-6FAB-4DD5-AF07-2C787C53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708D-536F-4C17-ACA2-1795DF5B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8E15-36A6-4A0C-89A8-E151BCE1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1CFA-28A0-41E5-A10D-710A731E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0EDB-F41D-4D08-AA4B-77B4377F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ACC1-3C57-47DE-B236-2179F247C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m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7631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o this poisoned atmosphere of mutual dislike and mistrust walks Archduke Franz Ferdin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June 28, 1914, Archduke Franz Ferdinand paid a visit to the capital of Bos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assinated at point-blank range as they rode in the str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RK that ignites the “powder keg”!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tria decided to punish Serbia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an ultimat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bia agreed to most of the demands, but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tria was in no mood to negoti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tria declared war on July 28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f a chain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6172200" y="3429000"/>
            <a:ext cx="27194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701640" y="380880"/>
            <a:ext cx="79088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ryone starts to declares wa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Austria declared war, leaders all over Europe suddenly took notice.  Leaders tried to negotiate, but it was too l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thought it would be a small conflict, but because of the alliance system it spread quick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any declare war against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nce declared war o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any declared war on Belg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 Britain declared war o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less than 1 week, the Central Powers were at war with the Allied Po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: which countries declared war? And on wh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 the Allied Powers and Central Po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ur Causes of WW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648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peace and harmony characterized much of Europe at the beginning of the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, there were less visible forces at work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had gradual developments that would push the continent into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 Causes of WW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itar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lianc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eri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ion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4903920" y="1447920"/>
            <a:ext cx="4240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 Natio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50292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ism is a extreme feeling of devotion to your cou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d to intense competition among nations, each seeking to overpower the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ition for materials and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ritorial disp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rivalry began between the European nations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429160" y="1371600"/>
            <a:ext cx="371484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 Imperi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6019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force that helped set the stage for war was Imperial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erialism – the policy in which a stronger nation tries to control weaker n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nations competed fiercely for colonies in Africa and A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Europeans competed for overseas empires, their sense of rivalry and mistrust for one another deepe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6324480" y="1447920"/>
            <a:ext cx="26481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 Militar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troubling development was the rise of a dangerous European arms (weapons) r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s believed that to be truly great you needed a powerful milit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, it was important to be able to quickly mobilize or prepare for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4952880" y="3809880"/>
            <a:ext cx="3810240" cy="2762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457200" y="3886200"/>
            <a:ext cx="411480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4 Allianc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ing rivalries and mutual mistrust led to the creation of military alliances among the Great Powers of Eur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to von Bismarck formed a dual alliance between Germany and Austria-Hungary.  Later Italy joined forming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ple Alli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while, Russia had formed an alliance with France.  Great Britain joined their alliance forming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ple Enten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blem was secret alliances were formed between countri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smell troub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ple Entente/Allied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ple Alliance/Central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tria-Hung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toman Emp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1"/>
          <a:stretch/>
        </p:blipFill>
        <p:spPr>
          <a:xfrm>
            <a:off x="2514600" y="3886200"/>
            <a:ext cx="41148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iances were a ticking time bomb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sis in the Balk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4648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early 1900s, the Balkans were known as the “powder keg” of Eur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different ethnic groups who were incredibly Nationalist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08, Austria made a big mistake by annexing (taking over) Bosnia and Herzegovi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bians were outrag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sions between Serbia and Austria steadily increas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3672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02:08:28Z</dcterms:created>
  <dc:creator>HP Authorized Customer</dc:creator>
  <dc:description/>
  <dc:language>en-US</dc:language>
  <cp:lastModifiedBy>Jessica Taylor</cp:lastModifiedBy>
  <dcterms:modified xsi:type="dcterms:W3CDTF">2012-12-12T13:36:46Z</dcterms:modified>
  <cp:revision>16</cp:revision>
  <dc:subject/>
  <dc:title>Slide 1</dc:title>
</cp:coreProperties>
</file>