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7DD-052F-4B93-8B35-0809F046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5F6-ACCC-4BD6-B94E-D0513D1A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4B3-015F-47C2-A33F-8322A5EE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668-8772-467B-B9F7-0747600D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023-0908-4288-B0CF-7EE15677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E04-F21E-4B15-A841-FF4676B6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491-965A-4848-8D34-E10741B4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888-B262-4AFC-AC17-AE738A69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E12-3781-48BC-B5FA-D780306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A70-1BFA-4F17-B88F-D90CFFF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429-83D4-412E-A941-58F25056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734-4C9E-4DDC-9D48-3C9A34F0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1B65-7367-4296-8010-6514212B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this poisoned atmosphere of mutual dislike and mistrust walks Archduke Franz Ferdin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June 28, 1914, Archduke Franz Ferdinand paid a visit to the capital of Bos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assinated at point-blank range as they rode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that ignites the “powder keg”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ia decided to punish Serbi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n ultima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bia agreed to most of the demands, but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 was in no mood to negot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 declared war on July 28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f a chai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6172200" y="3429000"/>
            <a:ext cx="2719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01640" y="380880"/>
            <a:ext cx="7908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one starts to declares w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ustria declared war, leaders all over Europe suddenly took notice.  Leaders tried to negotiate, but it was too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hought it would be a small conflict, but because of the alliance system it spread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eclare war against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declared war o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eclared war on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Britain declared war o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ess than 1 week, the Central Powers were at war with the Allied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: which countries declared war? And on wh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Allied Powers and Central P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 Causes of W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peace and harmony characterized much of Europe at the beginning of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there were less visible forces at wor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had gradual developments that would push the continent into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Causes of WW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ta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ian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ri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903920" y="1447920"/>
            <a:ext cx="4240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0292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 is a extreme feeling of devotion to you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intense competition among nations, each seeking to overpower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for materials and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itorial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rivalry began between the European nation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429160" y="1371600"/>
            <a:ext cx="3714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601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force that helped set the stage for war was Imperi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ialism – the policy in which a stronger nation tries to control weaker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nations competed fiercely for colonies in Africa and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uropeans competed for overseas empires, their sense of rivalry and mistrust for one another dee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2648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troubling development was the rise of a dangerous European arms (weapons)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believed that to be truly great you needed a powerful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it was important to be able to quickly mobilize or prepare for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810240" cy="276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4114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 Allianc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rivalries and mutual mistrust led to the creation of military alliances among the Great Powers of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to von Bismarck formed a dual alliance between Germany and Austria-Hungary.  Later Italy joined form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ple All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while, Russia had formed an alliance with France.  Great Britain joined their alliance form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ple Ent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was secret alliances were formed between countr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mell trou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e Entente/Allied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e Alliance/Centr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iances were a ticking time bomb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 in the Balk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arly 1900s, the Balkans were known as the “powder keg” of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fferent ethnic groups who were incredibly National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8, Austria made a big mistake by annexing (taking over) Bosnia and Herzegov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bians were outrag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s between Serbia and Austria steadily increa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672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2:08:28Z</dcterms:created>
  <dc:creator>HP Authorized Customer</dc:creator>
  <dc:description/>
  <dc:language>en-US</dc:language>
  <cp:lastModifiedBy>Jessica Taylor</cp:lastModifiedBy>
  <dcterms:modified xsi:type="dcterms:W3CDTF">2012-12-12T13:36:46Z</dcterms:modified>
  <cp:revision>16</cp:revision>
  <dc:subject/>
  <dc:title>Slide 1</dc:title>
</cp:coreProperties>
</file>