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936-4EA4-4211-9132-A5E06DB9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404-868E-46BF-8696-2EA2FFFC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6B3-41FE-456C-BE89-7CEEBBD6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DC5-8E52-4A6A-9DA2-5065034F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4DB-8CD2-4B00-857F-64354328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6CE-ED61-47D6-95D2-CC5C9E52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2AB-659F-4B4B-B91D-EEE0E9D5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17A-D3C6-4DF4-916C-EA4DDB1B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561-E707-420A-96FA-5AE0676F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3F9-4C5B-4F42-AC22-11B2EC7F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D35-8643-4995-994E-02F0456C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339-C0F6-4EA3-A34F-D1B8112F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40A6-1FA6-4E38-AFF6-C94ADDA8A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ge of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Christopher Columbus.jpg"/>
          <p:cNvPicPr/>
          <p:nvPr/>
        </p:nvPicPr>
        <p:blipFill>
          <a:blip r:embed="rId1"/>
          <a:stretch/>
        </p:blipFill>
        <p:spPr>
          <a:xfrm>
            <a:off x="1339920" y="1728720"/>
            <a:ext cx="6464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arly Spanish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1371240"/>
            <a:ext cx="5562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Began Spanish settlement in the New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in benefitted from discovery of the new world – finding precious minerals, and establishing plantations and colo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ves were forced to convert to Christia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ves were enslaved and ki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fore Columbus: 1 or 2 million Tai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Columbus:  only 500 Tain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olumbus 2.jpg"/>
          <p:cNvPicPr/>
          <p:nvPr/>
        </p:nvPicPr>
        <p:blipFill>
          <a:blip r:embed="rId1"/>
          <a:stretch/>
        </p:blipFill>
        <p:spPr>
          <a:xfrm>
            <a:off x="6043680" y="1447920"/>
            <a:ext cx="3100320" cy="2361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olumbus.jpg"/>
          <p:cNvPicPr/>
          <p:nvPr/>
        </p:nvPicPr>
        <p:blipFill>
          <a:blip r:embed="rId2"/>
          <a:stretch/>
        </p:blipFill>
        <p:spPr>
          <a:xfrm>
            <a:off x="6019920" y="3909960"/>
            <a:ext cx="3124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 of Demar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and Portugal were rivals over the new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e Alexander VI set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 of Demar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viding the non-European world into two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in had lands west of the 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ugal had lands to the e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0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edro Cab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covers Brazil for Portu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eaty of Tordesillas (1494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blished the specific terms of the Line of Demarca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LIne of Demarcation.jpg"/>
          <p:cNvPicPr/>
          <p:nvPr/>
        </p:nvPicPr>
        <p:blipFill>
          <a:blip r:embed="rId1"/>
          <a:stretch/>
        </p:blipFill>
        <p:spPr>
          <a:xfrm>
            <a:off x="1905120" y="0"/>
            <a:ext cx="606564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Spanish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61960" y="9140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lumbus’s voyages, Spain was eager to claim lands in the New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al was to explore and conquer “New Spain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rned to adventurers call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quista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nquistadors were allowed to establish settlements and seize the wealth of natives.  In return the Spanish government gave them 1/5 of the treasures they fou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Spanish Conquistad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ernan Cortez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ored and conquered the lands of the Aztec in Mex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Francisco Pizarr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explored and conquered the lands of the Inca in Per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Hernando Cortez.jpg"/>
          <p:cNvPicPr/>
          <p:nvPr/>
        </p:nvPicPr>
        <p:blipFill>
          <a:blip r:embed="rId1"/>
          <a:stretch/>
        </p:blipFill>
        <p:spPr>
          <a:xfrm>
            <a:off x="228600" y="1143000"/>
            <a:ext cx="1984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Later Spanish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1294920"/>
            <a:ext cx="5181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plorations and conquests of the conquistadors transformed Sp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lth from the America’s made Spain one of the world’s richest and most powerful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quistadors destroyed Aztecs and Incas – millions died from slavery and dis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ortez and Montezuma.jpg"/>
          <p:cNvPicPr/>
          <p:nvPr/>
        </p:nvPicPr>
        <p:blipFill>
          <a:blip r:embed="rId1"/>
          <a:stretch/>
        </p:blipFill>
        <p:spPr>
          <a:xfrm>
            <a:off x="5562720" y="1295280"/>
            <a:ext cx="3276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Later Spanish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  The Columbian Exch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many goods were exchanged between the new world and Eur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World sent gold, silver, corn, potatoes, chocolate, and tobacco to Eur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ropeans sent horses, sheep, pigs, guns and germs to New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 Exploration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nglish, Dutch, and French explored the coast of North America unsuccessfully for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“Northwest Passage”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Route from the Atlantic Ocean to the Pacific Ocean through the Arctic islan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hn Cabot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97 (England) trying to find the Northwest Pa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iovanni da Verrazano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24 (France)  explored the Atlantic coast from NC to Can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609 (England) tried to find the “Northwest Passage”, but instead explored the Hudson 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190px-Vascon%C3%BA%C3%B1ezdebalboa"/>
          <p:cNvPicPr/>
          <p:nvPr/>
        </p:nvPicPr>
        <p:blipFill>
          <a:blip r:embed="rId1"/>
          <a:stretch/>
        </p:blipFill>
        <p:spPr>
          <a:xfrm>
            <a:off x="7165800" y="838080"/>
            <a:ext cx="1978200" cy="289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25px-Magellan_1810_engraving"/>
          <p:cNvPicPr/>
          <p:nvPr/>
        </p:nvPicPr>
        <p:blipFill>
          <a:blip r:embed="rId2"/>
          <a:stretch/>
        </p:blipFill>
        <p:spPr>
          <a:xfrm>
            <a:off x="6781680" y="2362320"/>
            <a:ext cx="2143080" cy="273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ohn Cabot."/>
          <p:cNvPicPr/>
          <p:nvPr/>
        </p:nvPicPr>
        <p:blipFill>
          <a:blip r:embed="rId3"/>
          <a:stretch/>
        </p:blipFill>
        <p:spPr>
          <a:xfrm>
            <a:off x="6969240" y="4114800"/>
            <a:ext cx="217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uropean Exploration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ike the Spanish conquistadors, northern explorers did not find gold or any other treasures.  As a result, they did not establish colonies at fir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f European Explo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ropeans started trading with Native Americans and established trading posts in North Amer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First Thanksgiving.bmp"/>
          <p:cNvPicPr/>
          <p:nvPr/>
        </p:nvPicPr>
        <p:blipFill>
          <a:blip r:embed="rId1"/>
          <a:stretch/>
        </p:blipFill>
        <p:spPr>
          <a:xfrm>
            <a:off x="2666880" y="4530600"/>
            <a:ext cx="3657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uropean Exploration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0528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 English exploration led to war between England and Spa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glish “sea dogs” raided Spanish ports and ships to take their go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 King Philip II sent the Spanish Armada, a fleet of ships, to invade England.  It failed and England became the richest and most powerful country in the Wor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Francis Drake's Ship.jpg"/>
          <p:cNvPicPr/>
          <p:nvPr/>
        </p:nvPicPr>
        <p:blipFill>
          <a:blip r:embed="rId1"/>
          <a:stretch/>
        </p:blipFill>
        <p:spPr>
          <a:xfrm>
            <a:off x="5105520" y="1568520"/>
            <a:ext cx="3809880" cy="270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Route of Armada.gif"/>
          <p:cNvPicPr/>
          <p:nvPr/>
        </p:nvPicPr>
        <p:blipFill>
          <a:blip r:embed="rId2"/>
          <a:stretch/>
        </p:blipFill>
        <p:spPr>
          <a:xfrm>
            <a:off x="6753240" y="1600200"/>
            <a:ext cx="2390760" cy="525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panish_Armada.jpg"/>
          <p:cNvPicPr/>
          <p:nvPr/>
        </p:nvPicPr>
        <p:blipFill>
          <a:blip r:embed="rId3"/>
          <a:stretch/>
        </p:blipFill>
        <p:spPr>
          <a:xfrm>
            <a:off x="5029200" y="4267080"/>
            <a:ext cx="34290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ly Middle 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2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the Middle Ages, many Europeans thought the world was a disk floating on a great ocean and knew little about the world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3 Continents:  Europe, Africa and A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p-makers called the ocean the “sea of darknes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ilors told stories of sea monsters with “horns, flames, and huge eyes 16 0r 20 feet acros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the Crusades, Europeans were introduced to luxury goods from Asia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s were carried on a trade route through the Mongol Empi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ack plague and Mongol Empire disrupted trad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arch for Sp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294920"/>
            <a:ext cx="5486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valuable items were Sp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: preserving food, flavoring food, medicine, and perf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lucc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spice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ngs and Queens were looking to increase their wealth and knew that huge profits could made by trading with China and other Asian land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lim and Italian merchants controlled these trade ro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they had to find a new route to reach As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Spices 2.jpg"/>
          <p:cNvPicPr/>
          <p:nvPr/>
        </p:nvPicPr>
        <p:blipFill>
          <a:blip r:embed="rId1"/>
          <a:stretch/>
        </p:blipFill>
        <p:spPr>
          <a:xfrm>
            <a:off x="5856120" y="1447920"/>
            <a:ext cx="328788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Spice Islands.gif"/>
          <p:cNvPicPr/>
          <p:nvPr/>
        </p:nvPicPr>
        <p:blipFill>
          <a:blip r:embed="rId2"/>
          <a:stretch/>
        </p:blipFill>
        <p:spPr>
          <a:xfrm>
            <a:off x="5834160" y="4114800"/>
            <a:ext cx="33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es for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3716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e route to A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lk and Sp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od, Glory, G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d techn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tographers = map 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trolabes = used horizon to determine latitude and longit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asses = determine loc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avel = stronger and faster ship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Map.jpg"/>
          <p:cNvPicPr/>
          <p:nvPr/>
        </p:nvPicPr>
        <p:blipFill>
          <a:blip r:embed="rId1"/>
          <a:stretch/>
        </p:blipFill>
        <p:spPr>
          <a:xfrm>
            <a:off x="6248520" y="1143000"/>
            <a:ext cx="25956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strolabe.jpg"/>
          <p:cNvPicPr/>
          <p:nvPr/>
        </p:nvPicPr>
        <p:blipFill>
          <a:blip r:embed="rId2"/>
          <a:stretch/>
        </p:blipFill>
        <p:spPr>
          <a:xfrm>
            <a:off x="7257960" y="1981080"/>
            <a:ext cx="1886040" cy="255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ompass.jpg"/>
          <p:cNvPicPr/>
          <p:nvPr/>
        </p:nvPicPr>
        <p:blipFill>
          <a:blip r:embed="rId3"/>
          <a:stretch/>
        </p:blipFill>
        <p:spPr>
          <a:xfrm>
            <a:off x="5715000" y="2133720"/>
            <a:ext cx="2028960" cy="304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aravel from B. Landstrom's The Ship"/>
          <p:cNvPicPr/>
          <p:nvPr/>
        </p:nvPicPr>
        <p:blipFill>
          <a:blip r:embed="rId4"/>
          <a:stretch/>
        </p:blipFill>
        <p:spPr>
          <a:xfrm>
            <a:off x="6292800" y="4419720"/>
            <a:ext cx="2851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uguese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8380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rtugal was the first country to send out explor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ce Henry the Navigator  led the Age of Explo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nded a school of Navigation to train cartographers and sail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nted to find new sources of gold, spread Christianity, and find new trade rou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Portuguese Explorers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rtolomeu Dia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unded the cape of good hope (Southern tip of Afr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sco da Gama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nd a trade route to Calicut, Ind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dro Cabral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iled to Brazil, then India establishing trading treaties for Portug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6272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enryinf"/>
          <p:cNvPicPr/>
          <p:nvPr/>
        </p:nvPicPr>
        <p:blipFill>
          <a:blip r:embed="rId1"/>
          <a:stretch/>
        </p:blipFill>
        <p:spPr>
          <a:xfrm>
            <a:off x="7083360" y="914400"/>
            <a:ext cx="206064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ias.jpg"/>
          <p:cNvPicPr/>
          <p:nvPr/>
        </p:nvPicPr>
        <p:blipFill>
          <a:blip r:embed="rId2"/>
          <a:stretch/>
        </p:blipFill>
        <p:spPr>
          <a:xfrm>
            <a:off x="7008840" y="2438280"/>
            <a:ext cx="2135160" cy="290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Vasco da Gama.jpg"/>
          <p:cNvPicPr/>
          <p:nvPr/>
        </p:nvPicPr>
        <p:blipFill>
          <a:blip r:embed="rId3"/>
          <a:stretch/>
        </p:blipFill>
        <p:spPr>
          <a:xfrm>
            <a:off x="7313760" y="4343400"/>
            <a:ext cx="183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Portuguese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’s explorers changed Europe’s understanding of the world in several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ugal found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ng pos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estern Africa and brought back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l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la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6272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African Slaves.jpg"/>
          <p:cNvPicPr/>
          <p:nvPr/>
        </p:nvPicPr>
        <p:blipFill>
          <a:blip r:embed="rId1"/>
          <a:stretch/>
        </p:blipFill>
        <p:spPr>
          <a:xfrm>
            <a:off x="914400" y="3809880"/>
            <a:ext cx="3714840" cy="269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Asante Gold.jpg"/>
          <p:cNvPicPr/>
          <p:nvPr/>
        </p:nvPicPr>
        <p:blipFill>
          <a:blip r:embed="rId2"/>
          <a:stretch/>
        </p:blipFill>
        <p:spPr>
          <a:xfrm>
            <a:off x="4952880" y="3733920"/>
            <a:ext cx="32004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Portuguese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 took control of the eastern sea routes to Asia and formed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opol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spices and s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 form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onies in Brazi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ing natives to work as slaves on sugar plantations and convert to Christian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utch East India Company.jpg"/>
          <p:cNvPicPr/>
          <p:nvPr/>
        </p:nvPicPr>
        <p:blipFill>
          <a:blip r:embed="rId1"/>
          <a:stretch/>
        </p:blipFill>
        <p:spPr>
          <a:xfrm>
            <a:off x="5886360" y="2057400"/>
            <a:ext cx="325764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Spanish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294920"/>
            <a:ext cx="6324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late 1400s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ng Ferdinand and Queen Isabell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determined to make Spain a powerful force in Eur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an to sponsor exploration and claim new lands for Sp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Spanish Explor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lumb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covered the west In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gella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overed the Strait of Magellan; first to circumnavigate the glo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hristopher Columbus, conjectural image by Sebastiano del Piombo in the  Metropolitan Museum of Art, New York."/>
          <p:cNvPicPr/>
          <p:nvPr/>
        </p:nvPicPr>
        <p:blipFill>
          <a:blip r:embed="rId1"/>
          <a:stretch/>
        </p:blipFill>
        <p:spPr>
          <a:xfrm>
            <a:off x="7086600" y="1295280"/>
            <a:ext cx="2057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Early Spanish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294920"/>
            <a:ext cx="4800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Spanish exploration significantly changed European’s view of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ealed the existence of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New World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the America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Latin America 17th Century.gif"/>
          <p:cNvPicPr/>
          <p:nvPr/>
        </p:nvPicPr>
        <p:blipFill>
          <a:blip r:embed="rId1"/>
          <a:stretch/>
        </p:blipFill>
        <p:spPr>
          <a:xfrm>
            <a:off x="5181480" y="137160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1:29:07Z</dcterms:created>
  <dc:creator>CHCCS</dc:creator>
  <dc:description/>
  <dc:language>en-US</dc:language>
  <cp:lastModifiedBy>Jessica Taylor</cp:lastModifiedBy>
  <dcterms:modified xsi:type="dcterms:W3CDTF">2012-10-29T13:58:22Z</dcterms:modified>
  <cp:revision>33</cp:revision>
  <dc:subject/>
  <dc:title>The Age of Exploration</dc:title>
</cp:coreProperties>
</file>