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BFC6-4CEC-41C7-A426-3F5975D0B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otation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187D-6F6E-4986-A865-22F02FEBC8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tudents about 2012, what are the commonalities in the theori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yan Calendar ends on that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 and Sun will align with the center of the galaxy. Happens every 25,8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Axis will complete a procession (full cycle of the rotation axis of a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otatin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body.) One circuit = 25,771.5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redicts more solar flares and near-Earth objects during the year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36F-4F15-4E95-AD90-B32E73D4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3C7-95FB-47B7-B89E-722E1F3C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C07-AAF8-4966-B6EE-344A6F82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508-35F0-48F8-99C0-4256169E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D011-A4CC-48E4-A801-A0D92B91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25FE-491B-42FA-91F9-D9E3520D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F649-3A2B-4D47-9B5C-F82FA013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3E3B-5C08-45AB-879F-55FCF95A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922B-33F0-4A17-B3C9-B8D29AD7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4CBB-A95F-47F5-9CAE-315E6C7B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1BB8-0E27-484E-B2F2-2B44E557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288-8512-486E-9D49-DE3EEC9D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C44A-7F72-4AB7-B944-A833430B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B7C6-7DC2-424C-A493-858FF675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2A6F-048B-4CCE-9553-D84B8433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8475-948B-4849-9B40-FB001263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7292-6E71-4FAE-A03D-FB74735A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ABF-D72D-4D91-AC00-3F069FBB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A25A-7A70-42F5-B810-A9FBFEE3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AF9-7BA8-4AA4-87AF-4CAF131A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052F-3F56-440E-948C-87B748C6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EE6A-AB6D-48B2-B776-678C22B8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037-51C9-4F32-A8D5-BBAABE25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AC3-E986-4CDD-9BBD-9C7F47B4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6EAD-ABA7-459B-9490-F135764A9D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F6A8-B211-441E-967D-3078ECF2AB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a/Mesoam&#233;rica_relief_map_with_continental_scale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1/Aztec_Empire_1519_map-fr.svg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esoamerica: 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yan &amp; Aztec Empir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File:Mesoamérica relief map with continental scale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895480"/>
            <a:ext cx="5337360" cy="3676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aztec-calendar-rising-of-the-sixth-sun-road-to-2012"/>
          <p:cNvPicPr/>
          <p:nvPr/>
        </p:nvPicPr>
        <p:blipFill>
          <a:blip r:embed="rId3"/>
          <a:stretch/>
        </p:blipFill>
        <p:spPr>
          <a:xfrm>
            <a:off x="304920" y="1905120"/>
            <a:ext cx="307656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ligion:  Major Gods cont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kumatz – Feathered snake g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ught the Maya the arts of civilization, including codes of law, agriculture, fishing, and medic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70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xchel – Earth and Moon Godd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ddess of creativity, weavers and childbirth, goddess of medicine and reason, and a bringer of the stor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5" descr="0x01 graphic"/>
          <p:cNvPicPr/>
          <p:nvPr/>
        </p:nvPicPr>
        <p:blipFill>
          <a:blip r:embed="rId1"/>
          <a:stretch/>
        </p:blipFill>
        <p:spPr>
          <a:xfrm>
            <a:off x="0" y="4476600"/>
            <a:ext cx="1781280" cy="2381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0x01 graphic"/>
          <p:cNvPicPr/>
          <p:nvPr/>
        </p:nvPicPr>
        <p:blipFill>
          <a:blip r:embed="rId2"/>
          <a:stretch/>
        </p:blipFill>
        <p:spPr>
          <a:xfrm>
            <a:off x="7315200" y="5181480"/>
            <a:ext cx="1565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yan Achievements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chite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uild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an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tr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sed Zero (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alendar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8" descr="mayan-numbers-math1"/>
          <p:cNvPicPr/>
          <p:nvPr/>
        </p:nvPicPr>
        <p:blipFill>
          <a:blip r:embed="rId1"/>
          <a:stretch/>
        </p:blipFill>
        <p:spPr>
          <a:xfrm>
            <a:off x="4114800" y="1523880"/>
            <a:ext cx="5029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yan Calenda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aya ha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wo calenda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365 day farming calend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260 day religious calend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mo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ccura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the European calend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" descr="mystery_of_the_mayan_calendar_revealed"/>
          <p:cNvPicPr/>
          <p:nvPr/>
        </p:nvPicPr>
        <p:blipFill>
          <a:blip r:embed="rId1"/>
          <a:stretch/>
        </p:blipFill>
        <p:spPr>
          <a:xfrm>
            <a:off x="4952880" y="1828800"/>
            <a:ext cx="4016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cline of Mayan Civiliz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ors to declin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nvironmental Dam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use of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u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 able to feed every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rfare Increa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ompetition over la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use of Power by K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Azte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ated in modern da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exic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ochtitlan was the capital city and is located in what is now present da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exico C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aztec-empire-map-2"/>
          <p:cNvPicPr/>
          <p:nvPr/>
        </p:nvPicPr>
        <p:blipFill>
          <a:blip r:embed="rId1"/>
          <a:stretch/>
        </p:blipFill>
        <p:spPr>
          <a:xfrm>
            <a:off x="380880" y="4038480"/>
            <a:ext cx="3467160" cy="2610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tenochtitlan"/>
          <p:cNvPicPr/>
          <p:nvPr/>
        </p:nvPicPr>
        <p:blipFill>
          <a:blip r:embed="rId2"/>
          <a:stretch/>
        </p:blipFill>
        <p:spPr>
          <a:xfrm>
            <a:off x="4495680" y="3789360"/>
            <a:ext cx="464832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ise of the Aztec Empi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ording to legend, the war god told one of the tribes’ leaders that they should look for a place where they saw 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agle perched on a cactus eating a snak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It was there that they should settle and build a new capit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buil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nochtitlan after the prediction came true, and it was on a swampy island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Lake Texcoc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ise of the Aztec Empire Cont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tion consisted of farmers &amp; warri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llied with Texcoco and Tlacop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the alliance was formed the empire gained control over many region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400 – 5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ther city-st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5 Million peop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nder Aztec ru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ztec Empi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quered people pai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ribu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ribute was a type of ta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ztec Empire gained wealt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ibu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11" descr="File:Aztec Empire 1519 map-fr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15080" y="2133720"/>
            <a:ext cx="4140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enochtitl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ive square mi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roximately 3200 acr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200,00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4228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rchitectu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lled 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yram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la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ll co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loating Garden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Chinamp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ztec Socie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0" name="Group 14"/>
          <p:cNvGrpSpPr/>
          <p:nvPr/>
        </p:nvGrpSpPr>
        <p:grpSpPr>
          <a:xfrm>
            <a:off x="762120" y="2286000"/>
            <a:ext cx="3695760" cy="4114800"/>
            <a:chOff x="762120" y="2286000"/>
            <a:chExt cx="3695760" cy="4114800"/>
          </a:xfrm>
        </p:grpSpPr>
        <p:sp>
          <p:nvSpPr>
            <p:cNvPr id="181" name="AutoShape 13"/>
            <p:cNvSpPr/>
            <p:nvPr/>
          </p:nvSpPr>
          <p:spPr>
            <a:xfrm>
              <a:off x="762120" y="2286000"/>
              <a:ext cx="369576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_s40975"/>
            <p:cNvSpPr/>
            <p:nvPr/>
          </p:nvSpPr>
          <p:spPr>
            <a:xfrm flipV="1">
              <a:off x="2148120" y="2743200"/>
              <a:ext cx="923760" cy="799920"/>
            </a:xfrm>
            <a:prstGeom prst="pie">
              <a:avLst/>
            </a:prstGeom>
            <a:solidFill>
              <a:srgbClr val="0080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ahoma"/>
                </a:rPr>
                <a:t>King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_s40976"/>
            <p:cNvSpPr/>
            <p:nvPr/>
          </p:nvSpPr>
          <p:spPr>
            <a:xfrm flipV="1">
              <a:off x="1686240" y="3542400"/>
              <a:ext cx="1847520" cy="800280"/>
            </a:xfrm>
            <a:prstGeom prst="pie">
              <a:avLst/>
            </a:prstGeom>
            <a:solidFill>
              <a:srgbClr val="00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ahoma"/>
                </a:rPr>
                <a:t>Priests &amp; Warrior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_s40984"/>
            <p:cNvSpPr/>
            <p:nvPr/>
          </p:nvSpPr>
          <p:spPr>
            <a:xfrm flipV="1">
              <a:off x="1224000" y="4343400"/>
              <a:ext cx="2772000" cy="799920"/>
            </a:xfrm>
            <a:prstGeom prst="pie">
              <a:avLst/>
            </a:prstGeom>
            <a:solidFill>
              <a:srgbClr val="ff66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ahoma"/>
                </a:rPr>
                <a:t>Farmer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_s40977"/>
            <p:cNvSpPr/>
            <p:nvPr/>
          </p:nvSpPr>
          <p:spPr>
            <a:xfrm flipV="1">
              <a:off x="762120" y="5142600"/>
              <a:ext cx="3695760" cy="800280"/>
            </a:xfrm>
            <a:prstGeom prst="pie">
              <a:avLst/>
            </a:prstGeom>
            <a:solidFill>
              <a:srgbClr val="80008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ahoma"/>
                </a:rPr>
                <a:t>Slaves &amp; Prisoners of War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6" name="Text Box 23"/>
          <p:cNvSpPr/>
          <p:nvPr/>
        </p:nvSpPr>
        <p:spPr>
          <a:xfrm>
            <a:off x="4724280" y="1981080"/>
            <a:ext cx="419112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ough people were born into a certain class it was possible to move up the ranks within a life ti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so apart of the middle cl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erchants and Artis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mate of Mesoameric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empera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lentifu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ainf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c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volcan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o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od for growing crops lik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ize, beans, and squas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maize"/>
          <p:cNvPicPr/>
          <p:nvPr/>
        </p:nvPicPr>
        <p:blipFill>
          <a:blip r:embed="rId1"/>
          <a:stretch/>
        </p:blipFill>
        <p:spPr>
          <a:xfrm>
            <a:off x="5791320" y="4495680"/>
            <a:ext cx="2952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ztec Relig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23619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 deity in the Aztec religion w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uitzilopochtl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was known as both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un go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r g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uman sacrifi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as practiced heavily in the Aztec relig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lieved that these sacrifices gav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ower to the go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which in turn would insure the survival of the Aztec civiliz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7" descr="Aztec religion"/>
          <p:cNvPicPr/>
          <p:nvPr/>
        </p:nvPicPr>
        <p:blipFill>
          <a:blip r:embed="rId1"/>
          <a:stretch/>
        </p:blipFill>
        <p:spPr>
          <a:xfrm>
            <a:off x="6553080" y="60480"/>
            <a:ext cx="25909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ig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 captives were used in the sacrif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imes of peace the Aztec would have to resort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itualistic warf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year 1487 the Aztecs reported kill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84,400 war prisoners in four day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t the great pyramid of Tenochitl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a town was conquered the inhabitants where no longer eligible of sacrifice and became Aztec citizen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ztec Ar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488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ztecs also made other religious and non-religious artifacts such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ade mas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se artifacts were sold in markets by visiting mercha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4" descr="aztec-mask-1"/>
          <p:cNvPicPr/>
          <p:nvPr/>
        </p:nvPicPr>
        <p:blipFill>
          <a:blip r:embed="rId1"/>
          <a:stretch/>
        </p:blipFill>
        <p:spPr>
          <a:xfrm>
            <a:off x="5943600" y="2057400"/>
            <a:ext cx="29289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ztec Achieve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ten Re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Glyphs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ymbols that represented both objects and sound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pt track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ax record and business detail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tr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endar like the Mayans, but they also tracked the movements of som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lane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arly Mesoamerican Civiliz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lme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1200 BC to 300 A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Zapote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1500 BC to 750 A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olte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900 to 1200 A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head"/>
          <p:cNvPicPr/>
          <p:nvPr/>
        </p:nvPicPr>
        <p:blipFill>
          <a:blip r:embed="rId1"/>
          <a:stretch/>
        </p:blipFill>
        <p:spPr>
          <a:xfrm>
            <a:off x="533520" y="2743200"/>
            <a:ext cx="35049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Mayan Civilization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733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arou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000 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its height, Maya civilization consisted of som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10 million peop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pread amo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40 citi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7" descr="palenque"/>
          <p:cNvPicPr/>
          <p:nvPr/>
        </p:nvPicPr>
        <p:blipFill>
          <a:blip r:embed="rId1"/>
          <a:stretch/>
        </p:blipFill>
        <p:spPr>
          <a:xfrm>
            <a:off x="5181480" y="1523880"/>
            <a:ext cx="3962520" cy="2962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Mapa_esp"/>
          <p:cNvPicPr/>
          <p:nvPr/>
        </p:nvPicPr>
        <p:blipFill>
          <a:blip r:embed="rId2"/>
          <a:stretch/>
        </p:blipFill>
        <p:spPr>
          <a:xfrm>
            <a:off x="4343400" y="3809880"/>
            <a:ext cx="2855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upporting Large Cit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a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gricul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elped support larger populations, and early Maya villages grew into cit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MayaTrade"/>
          <p:cNvPicPr/>
          <p:nvPr/>
        </p:nvPicPr>
        <p:blipFill>
          <a:blip r:embed="rId1"/>
          <a:stretch/>
        </p:blipFill>
        <p:spPr>
          <a:xfrm>
            <a:off x="4624560" y="1619280"/>
            <a:ext cx="45194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yan Farming Practice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lash and Burn Agriculture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method of farming involves burning the vegetation to clear land for plan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5" descr="uesc_09_img0523"/>
          <p:cNvPicPr/>
          <p:nvPr/>
        </p:nvPicPr>
        <p:blipFill>
          <a:blip r:embed="rId1"/>
          <a:stretch/>
        </p:blipFill>
        <p:spPr>
          <a:xfrm>
            <a:off x="4800600" y="3733920"/>
            <a:ext cx="4124160" cy="2409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image"/>
          <p:cNvPicPr/>
          <p:nvPr/>
        </p:nvPicPr>
        <p:blipFill>
          <a:blip r:embed="rId2"/>
          <a:stretch/>
        </p:blipFill>
        <p:spPr>
          <a:xfrm>
            <a:off x="1143000" y="4419720"/>
            <a:ext cx="32860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ayan Cities &amp; Governmen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ic 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250 to 900 A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ans buil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Stone pyram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Temp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ala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did they build them fo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Local Rulers (King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God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8" descr="itza_0372"/>
          <p:cNvPicPr/>
          <p:nvPr/>
        </p:nvPicPr>
        <p:blipFill>
          <a:blip r:embed="rId1"/>
          <a:stretch/>
        </p:blipFill>
        <p:spPr>
          <a:xfrm>
            <a:off x="5029200" y="2057400"/>
            <a:ext cx="37720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yan Society &amp; Relig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ngs ruled with absolute p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was believed the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communicated with the go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iests &amp; Warrio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Upper Cl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erchants &amp; Skilled Craftsm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iddle Cl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armers &amp; Sla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ower Cl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76560" y="1371600"/>
            <a:ext cx="4267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gious Ceremon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ering of blood to the gods. (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lood Lett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all G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ly allowed to use your elbows, knees, and hips to get a rubber ball through a hoo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sing team sacrific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uman Sacrif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ligion:  Major G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n Hunahpu – maize g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ther of the hero tw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important deity for the May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brought about the creation for the present world a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70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c – god of rain, thunder, and light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th adored and feared by the May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was portrayed as both a benefactor and a violent warri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0x01 graphic"/>
          <p:cNvPicPr/>
          <p:nvPr/>
        </p:nvPicPr>
        <p:blipFill>
          <a:blip r:embed="rId1"/>
          <a:stretch/>
        </p:blipFill>
        <p:spPr>
          <a:xfrm>
            <a:off x="7781760" y="5029200"/>
            <a:ext cx="1362240" cy="1828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0x01 graphic"/>
          <p:cNvPicPr/>
          <p:nvPr/>
        </p:nvPicPr>
        <p:blipFill>
          <a:blip r:embed="rId2"/>
          <a:stretch/>
        </p:blipFill>
        <p:spPr>
          <a:xfrm>
            <a:off x="0" y="5095800"/>
            <a:ext cx="16527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21:27:04Z</dcterms:created>
  <dc:creator>Preferred Customer</dc:creator>
  <dc:description/>
  <dc:language>en-US</dc:language>
  <cp:lastModifiedBy>Jessica Taylor</cp:lastModifiedBy>
  <dcterms:modified xsi:type="dcterms:W3CDTF">2012-09-23T17:58:48Z</dcterms:modified>
  <cp:revision>6</cp:revision>
  <dc:subject/>
  <dc:title>Mesoamerica:   Aztec Empire</dc:title>
</cp:coreProperties>
</file>