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5D0-03E2-4D52-90AA-EE9ADC69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tation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1C80-8F5F-4D6F-96C9-4EA6A6701D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tudents about 2012, what are the commonalities in the theori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yan Calendar ends on that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nd Sun will align with the center of the galaxy. Happens every 25,8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Axis will complete a procession (full cycle of the rotation axis of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tatin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body.) One circuit = 25,771.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redicts more solar flares and near-Earth objects during the year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5C8-60AD-44E1-85CD-C5F124AF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90F-AB0B-45FF-BC86-5D4CD62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3BE-CAF8-4B15-BC92-992194E5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020-6D00-4AE6-9C17-5E570F93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17E-D722-45CD-9A25-F1238326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CF3E-0E88-4B50-8DF0-E4F2F00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58C0-8C73-4B1F-BFDD-23AA3C5C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2EE0-CC0C-4536-B87B-9EB2112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F5B-0719-4DD9-BD86-E2D16B8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7140-57F6-44B2-A0C7-5B73A9F6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8093-7EC5-405E-802E-1BB8E7D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268-D0BD-4142-94A5-A5D0BED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D466-2E5B-4ACC-B1A7-F0D5181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FA1B-714C-471D-BCA8-1C1305F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6E4B-98F9-46BD-9164-EFD4597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85A-5116-4C6C-A793-E55714B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4857-441B-4BDF-8B38-1F6D12A0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27A-84D5-49F1-A6FB-F5706FB9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FDE-D0E3-4021-AE6B-C23B1A1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EF6-7941-4F6B-A020-0CDB86AE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A38-B3B0-4B47-AF23-B248B6B9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09D-D19F-4781-977D-19BF1E9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C30-CC8D-484C-A88E-39BB85F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54A-DBBD-4066-AA13-A4A2D01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657-1C17-4D53-A74D-6BEAD6142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699-E589-4655-94B7-7D0DE93FFB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a/Mesoam&#233;rica_relief_map_with_continental_scale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Aztec_Empire_1519_map-fr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soamerica: 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&amp; Aztec Empi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File:Mesoamérica relief map with continental scal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895480"/>
            <a:ext cx="5337360" cy="36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ztec-calendar-rising-of-the-sixth-sun-road-to-2012"/>
          <p:cNvPicPr/>
          <p:nvPr/>
        </p:nvPicPr>
        <p:blipFill>
          <a:blip r:embed="rId3"/>
          <a:stretch/>
        </p:blipFill>
        <p:spPr>
          <a:xfrm>
            <a:off x="304920" y="1905120"/>
            <a:ext cx="307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igion:  Major Gods 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kumatz – Feathered snake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ught the Maya the arts of civilization, including codes of law, agriculture, fishing, and medic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xchel – Earth and Moon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creativity, weavers and childbirth, goddess of medicine and reason, and a bringer of the stor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0x01 graphic"/>
          <p:cNvPicPr/>
          <p:nvPr/>
        </p:nvPicPr>
        <p:blipFill>
          <a:blip r:embed="rId1"/>
          <a:stretch/>
        </p:blipFill>
        <p:spPr>
          <a:xfrm>
            <a:off x="0" y="4476600"/>
            <a:ext cx="1781280" cy="23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0x01 graphic"/>
          <p:cNvPicPr/>
          <p:nvPr/>
        </p:nvPicPr>
        <p:blipFill>
          <a:blip r:embed="rId2"/>
          <a:stretch/>
        </p:blipFill>
        <p:spPr>
          <a:xfrm>
            <a:off x="7315200" y="5181480"/>
            <a:ext cx="156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Achievements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il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d Zero (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lend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mayan-numbers-math1"/>
          <p:cNvPicPr/>
          <p:nvPr/>
        </p:nvPicPr>
        <p:blipFill>
          <a:blip r:embed="rId1"/>
          <a:stretch/>
        </p:blipFill>
        <p:spPr>
          <a:xfrm>
            <a:off x="4114800" y="1523880"/>
            <a:ext cx="502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Calend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ya h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wo calend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365 day farming cale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60 day religious cale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u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the European calend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mystery_of_the_mayan_calendar_revealed"/>
          <p:cNvPicPr/>
          <p:nvPr/>
        </p:nvPicPr>
        <p:blipFill>
          <a:blip r:embed="rId1"/>
          <a:stretch/>
        </p:blipFill>
        <p:spPr>
          <a:xfrm>
            <a:off x="4952880" y="1828800"/>
            <a:ext cx="4016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cline of Mayan Civ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to decl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vironmental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use of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able to feed every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fare Incre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 over 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se of Power by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Azte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d in modern d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xic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ochtitlan was the capital city and is located in what is now present d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xico C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aztec-empire-map-2"/>
          <p:cNvPicPr/>
          <p:nvPr/>
        </p:nvPicPr>
        <p:blipFill>
          <a:blip r:embed="rId1"/>
          <a:stretch/>
        </p:blipFill>
        <p:spPr>
          <a:xfrm>
            <a:off x="380880" y="4038480"/>
            <a:ext cx="3467160" cy="261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tenochtitlan"/>
          <p:cNvPicPr/>
          <p:nvPr/>
        </p:nvPicPr>
        <p:blipFill>
          <a:blip r:embed="rId2"/>
          <a:stretch/>
        </p:blipFill>
        <p:spPr>
          <a:xfrm>
            <a:off x="4495680" y="3789360"/>
            <a:ext cx="46483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se of the Aztec Empi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legend, the war god told one of the tribes’ leaders that they should look for a place where they saw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gle perched on a cactus eating a snak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It was there that they should settle and build a new capi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buil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ochtitlan after the prediction came true, and it was on a swampy isla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ke Texco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se of the Aztec Empire Cont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 consisted of farmers &amp; warri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ied with Texcoco and Tlacop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alliance was formed the empire gained control over many reg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00 – 5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ther city-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5 Million peop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der Aztec r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Empi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quered people pai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ibu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ibute was a type of ta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ztec Empire gained weal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1" descr="File:Aztec Empire 1519 map-fr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5080" y="2133720"/>
            <a:ext cx="414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ochtit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ive square m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oximately 3200 acr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00,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422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chitec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led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l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loating Garden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inamp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Socie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762120" y="2286000"/>
            <a:ext cx="3695760" cy="4114800"/>
            <a:chOff x="762120" y="2286000"/>
            <a:chExt cx="3695760" cy="4114800"/>
          </a:xfrm>
        </p:grpSpPr>
        <p:sp>
          <p:nvSpPr>
            <p:cNvPr id="181" name="AutoShape 13"/>
            <p:cNvSpPr/>
            <p:nvPr/>
          </p:nvSpPr>
          <p:spPr>
            <a:xfrm>
              <a:off x="762120" y="2286000"/>
              <a:ext cx="36957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40975"/>
            <p:cNvSpPr/>
            <p:nvPr/>
          </p:nvSpPr>
          <p:spPr>
            <a:xfrm flipV="1">
              <a:off x="2148120" y="2743200"/>
              <a:ext cx="923760" cy="799920"/>
            </a:xfrm>
            <a:prstGeom prst="pie">
              <a:avLst/>
            </a:prstGeom>
            <a:solidFill>
              <a:srgbClr val="0080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K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40976"/>
            <p:cNvSpPr/>
            <p:nvPr/>
          </p:nvSpPr>
          <p:spPr>
            <a:xfrm flipV="1">
              <a:off x="1686240" y="3542400"/>
              <a:ext cx="1847520" cy="800280"/>
            </a:xfrm>
            <a:prstGeom prst="pie">
              <a:avLst/>
            </a:prstGeom>
            <a:solidFill>
              <a:srgbClr val="00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Priests &amp; Warrio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40984"/>
            <p:cNvSpPr/>
            <p:nvPr/>
          </p:nvSpPr>
          <p:spPr>
            <a:xfrm flipV="1">
              <a:off x="1224000" y="4343400"/>
              <a:ext cx="2772000" cy="799920"/>
            </a:xfrm>
            <a:prstGeom prst="pie">
              <a:avLst/>
            </a:prstGeom>
            <a:solidFill>
              <a:srgbClr val="ff66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Farme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_s40977"/>
            <p:cNvSpPr/>
            <p:nvPr/>
          </p:nvSpPr>
          <p:spPr>
            <a:xfrm flipV="1">
              <a:off x="762120" y="5142600"/>
              <a:ext cx="3695760" cy="800280"/>
            </a:xfrm>
            <a:prstGeom prst="pie">
              <a:avLst/>
            </a:prstGeom>
            <a:solidFill>
              <a:srgbClr val="80008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Slaves &amp; Prisoners of Wa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Text Box 23"/>
          <p:cNvSpPr/>
          <p:nvPr/>
        </p:nvSpPr>
        <p:spPr>
          <a:xfrm>
            <a:off x="4724280" y="1981080"/>
            <a:ext cx="41911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ugh people were born into a certain class it was possible to move up the ranks within a lif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apart of the middle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rchants and Artis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mate of Mesoamer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er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ntif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ain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olca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growing crops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ize, beans, and squas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aize"/>
          <p:cNvPicPr/>
          <p:nvPr/>
        </p:nvPicPr>
        <p:blipFill>
          <a:blip r:embed="rId1"/>
          <a:stretch/>
        </p:blipFill>
        <p:spPr>
          <a:xfrm>
            <a:off x="5791320" y="44956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deity in the Aztec religion w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uitzilopochtl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was known as bo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n g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uman sacrifi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as practiced heavily in the Aztec relig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ieved that these sacrifices g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ower to the go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hich in turn would insure the survival of the Aztec civil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Aztec religion"/>
          <p:cNvPicPr/>
          <p:nvPr/>
        </p:nvPicPr>
        <p:blipFill>
          <a:blip r:embed="rId1"/>
          <a:stretch/>
        </p:blipFill>
        <p:spPr>
          <a:xfrm>
            <a:off x="6553080" y="60480"/>
            <a:ext cx="25909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captives were used in the sacrif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imes of peace the Aztec would have to resort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itualistic warf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year 1487 the Aztecs reported kil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84,400 war prisoners in four day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t the great pyramid of Tenochit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a town was conquered the inhabitants where no longer eligible of sacrifice and became Aztec citizen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ztec A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48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ztecs also made other religious and non-religious artifacts such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de mas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artifacts were sold in markets by visiting merch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aztec-mask-1"/>
          <p:cNvPicPr/>
          <p:nvPr/>
        </p:nvPicPr>
        <p:blipFill>
          <a:blip r:embed="rId1"/>
          <a:stretch/>
        </p:blipFill>
        <p:spPr>
          <a:xfrm>
            <a:off x="5943600" y="2057400"/>
            <a:ext cx="29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Achie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lyphs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ymbols that represented both objects and sou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pt track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ax record and business detai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endar like the Mayans, but they also tracked the movements of s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lan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arly Mesoamerican Civiliz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m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200 BC to 3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Zapot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500 BC to 75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lt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900 to 12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head"/>
          <p:cNvPicPr/>
          <p:nvPr/>
        </p:nvPicPr>
        <p:blipFill>
          <a:blip r:embed="rId1"/>
          <a:stretch/>
        </p:blipFill>
        <p:spPr>
          <a:xfrm>
            <a:off x="533520" y="2743200"/>
            <a:ext cx="3504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Mayan Civiliz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733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arou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000 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its height, Maya civilization consisted of so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0 million peop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read amo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40 cit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palenque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962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apa_esp"/>
          <p:cNvPicPr/>
          <p:nvPr/>
        </p:nvPicPr>
        <p:blipFill>
          <a:blip r:embed="rId2"/>
          <a:stretch/>
        </p:blipFill>
        <p:spPr>
          <a:xfrm>
            <a:off x="4343400" y="38098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pporting Large C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gricul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lped support larger populations, and early Maya villages grew into ci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MayaTrade"/>
          <p:cNvPicPr/>
          <p:nvPr/>
        </p:nvPicPr>
        <p:blipFill>
          <a:blip r:embed="rId1"/>
          <a:stretch/>
        </p:blipFill>
        <p:spPr>
          <a:xfrm>
            <a:off x="4624560" y="1619280"/>
            <a:ext cx="4519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Farming Practic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ash and Burn Agricultur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method of farming involves burning the vegetation to clear land for pla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uesc_09_img0523"/>
          <p:cNvPicPr/>
          <p:nvPr/>
        </p:nvPicPr>
        <p:blipFill>
          <a:blip r:embed="rId1"/>
          <a:stretch/>
        </p:blipFill>
        <p:spPr>
          <a:xfrm>
            <a:off x="4800600" y="3733920"/>
            <a:ext cx="4124160" cy="24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image"/>
          <p:cNvPicPr/>
          <p:nvPr/>
        </p:nvPicPr>
        <p:blipFill>
          <a:blip r:embed="rId2"/>
          <a:stretch/>
        </p:blipFill>
        <p:spPr>
          <a:xfrm>
            <a:off x="1143000" y="4419720"/>
            <a:ext cx="3286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ayan Cities &amp; Governmen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c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50 to 9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ans buil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tone pyram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emp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ala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did they build them fo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cal Rulers (Kin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o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itza_0372"/>
          <p:cNvPicPr/>
          <p:nvPr/>
        </p:nvPicPr>
        <p:blipFill>
          <a:blip r:embed="rId1"/>
          <a:stretch/>
        </p:blipFill>
        <p:spPr>
          <a:xfrm>
            <a:off x="5029200" y="2057400"/>
            <a:ext cx="3772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Society &amp; 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s ruled with absolute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was believed the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municated with the go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iests &amp; Warri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pper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rchants &amp; Skilled Craftsm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ddl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armers &amp;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wer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656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us Cerem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of blood to the gods.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ood Let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ll G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allowed to use your elbows, knees, and hips to get a rubber ball through a hoo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ing team sacrific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uman Sacri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igion:  Major G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n Hunahpu – maize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the hero t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portant deity for the Ma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brought about the creation for the present world 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c – god of rain, thunder, and light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dored and feared by the Ma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as portrayed as both a benefactor and a violent warr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0x01 graphic"/>
          <p:cNvPicPr/>
          <p:nvPr/>
        </p:nvPicPr>
        <p:blipFill>
          <a:blip r:embed="rId1"/>
          <a:stretch/>
        </p:blipFill>
        <p:spPr>
          <a:xfrm>
            <a:off x="7781760" y="5029200"/>
            <a:ext cx="1362240" cy="18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x01 graphic"/>
          <p:cNvPicPr/>
          <p:nvPr/>
        </p:nvPicPr>
        <p:blipFill>
          <a:blip r:embed="rId2"/>
          <a:stretch/>
        </p:blipFill>
        <p:spPr>
          <a:xfrm>
            <a:off x="0" y="5095800"/>
            <a:ext cx="1652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21:27:04Z</dcterms:created>
  <dc:creator>Preferred Customer</dc:creator>
  <dc:description/>
  <dc:language>en-US</dc:language>
  <cp:lastModifiedBy>Jessica Taylor</cp:lastModifiedBy>
  <dcterms:modified xsi:type="dcterms:W3CDTF">2012-09-23T17:58:48Z</dcterms:modified>
  <cp:revision>6</cp:revision>
  <dc:subject/>
  <dc:title>Mesoamerica:   Aztec Empire</dc:title>
</cp:coreProperties>
</file>