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DE7D-B5EE-4CE9-B502-96F432C7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7565-EFDC-4705-9607-BF67C098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EF5A-3826-413E-92E8-0103993E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11CC-008F-4BDF-BB05-10C11B4F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43CA-FA61-4171-A161-999A5770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98B8-6BC3-4774-95F7-3CFB2B0D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719E-C523-4556-872D-FEFED9A5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1D95-24DF-4329-98C2-B4290946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726F-1F54-4457-A3C0-BC7A4EA6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68E7-33A7-4B9A-A93D-DDE82944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A99C-C268-42DF-9B35-A59FD852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7025-422A-4FC0-A572-FB7F34D7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BA83-2346-4601-9E28-72C620322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gressors invade 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Beaches of NOrmandy.jpg"/>
          <p:cNvPicPr/>
          <p:nvPr/>
        </p:nvPicPr>
        <p:blipFill>
          <a:blip r:embed="rId1"/>
          <a:stretch/>
        </p:blipFill>
        <p:spPr>
          <a:xfrm>
            <a:off x="1371600" y="1447920"/>
            <a:ext cx="6694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stria and Czechoslovak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tler announced his plans to absorb Austria and Czechoslovakia into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Rei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erman empi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ria (1938) - Germans in Austria basically let Germany take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nich Confer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pt. 29, 1938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met to try to preserve pe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ve into Hitler's de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ler pledged to not ta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zechoslovak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months later…Germ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Czechoslovaki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munich agreement"/>
          <p:cNvPicPr/>
          <p:nvPr/>
        </p:nvPicPr>
        <p:blipFill>
          <a:blip r:embed="rId1"/>
          <a:stretch/>
        </p:blipFill>
        <p:spPr>
          <a:xfrm>
            <a:off x="5791320" y="4114800"/>
            <a:ext cx="311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1939 german map"/>
          <p:cNvPicPr/>
          <p:nvPr/>
        </p:nvPicPr>
        <p:blipFill>
          <a:blip r:embed="rId1"/>
          <a:stretch/>
        </p:blipFill>
        <p:spPr>
          <a:xfrm>
            <a:off x="1143000" y="228600"/>
            <a:ext cx="7010280" cy="63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viet Non-Aggression 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-Aggression Pac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ug. 23, 1939) - USSR and Germany agreed to never attack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Hitler is a lia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ades Polan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 and Great Brit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War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stalin"/>
          <p:cNvPicPr/>
          <p:nvPr/>
        </p:nvPicPr>
        <p:blipFill>
          <a:blip r:embed="rId1"/>
          <a:stretch/>
        </p:blipFill>
        <p:spPr>
          <a:xfrm>
            <a:off x="5410080" y="2590920"/>
            <a:ext cx="3260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league_of_nations_10"/>
          <p:cNvPicPr/>
          <p:nvPr/>
        </p:nvPicPr>
        <p:blipFill>
          <a:blip r:embed="rId2"/>
          <a:stretch/>
        </p:blipFill>
        <p:spPr>
          <a:xfrm>
            <a:off x="2438280" y="380880"/>
            <a:ext cx="449604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746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WWII Neutrality Acts.jpg"/>
          <p:cNvPicPr/>
          <p:nvPr/>
        </p:nvPicPr>
        <p:blipFill>
          <a:blip r:embed="rId1"/>
          <a:stretch/>
        </p:blipFill>
        <p:spPr>
          <a:xfrm>
            <a:off x="2666880" y="457200"/>
            <a:ext cx="436248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itary Ag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240" y="1294920"/>
            <a:ext cx="60958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mid-1930s, the nations of the world were divided into two groups – democratic and totalita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cratic = Britain, France, and United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talitari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Italy, Germany, Russia, Jap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cist dictatorships were willing to use military agg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7129440" y="914400"/>
            <a:ext cx="2014560" cy="2454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6740640" y="2743200"/>
            <a:ext cx="2403360" cy="2495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7338960" y="4800600"/>
            <a:ext cx="1805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 wants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240" y="1219320"/>
            <a:ext cx="6248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Great depression hit in 1929, many Japanese blamed the government and this led to military control of the countr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jo Hidek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k control of Japan, but kep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eror Hirohi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head of the 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litarists like Hideki planned a Pacific Empire for to make Japan a symbol of power and take over other countries (imperialis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nted raw materials and markets for their go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6781680" y="1219320"/>
            <a:ext cx="1962360" cy="245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Emperor Hirohito.bmp"/>
          <p:cNvPicPr/>
          <p:nvPr/>
        </p:nvPicPr>
        <p:blipFill>
          <a:blip r:embed="rId2"/>
          <a:stretch/>
        </p:blipFill>
        <p:spPr>
          <a:xfrm>
            <a:off x="6477120" y="3505320"/>
            <a:ext cx="247644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 Invades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6200" y="990360"/>
            <a:ext cx="50292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31, Japan invad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chu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region of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gue of Nations was violat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gue members protested Japans 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pan ignored and withdrew from the League in 193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35, Japanese forces invaded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ijing and Nanjing fell to the Japane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panese troops killed tens of thousands of captured soldiers and civilians (people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WWII Japanese Imperialism.png"/>
          <p:cNvPicPr/>
          <p:nvPr/>
        </p:nvPicPr>
        <p:blipFill>
          <a:blip r:embed="rId1"/>
          <a:stretch/>
        </p:blipFill>
        <p:spPr>
          <a:xfrm>
            <a:off x="228600" y="1066680"/>
            <a:ext cx="3270240" cy="3805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WWII Japanese Manchuria.jpg"/>
          <p:cNvPicPr/>
          <p:nvPr/>
        </p:nvPicPr>
        <p:blipFill>
          <a:blip r:embed="rId2"/>
          <a:stretch/>
        </p:blipFill>
        <p:spPr>
          <a:xfrm>
            <a:off x="304920" y="4191120"/>
            <a:ext cx="3609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uropean Aggres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62866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s on the M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2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ague of Nation’s failure to stop the Japanese encouraged European fascis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solini (Italy) invaded Ethiop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tler (Germany) ignores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aty of Versaill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creases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rm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nd builds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milita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vades France to get back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lost lan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rms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llianc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with Ital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me-Berlin Axis (October 1936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alliance formed between Germany and Ita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also made an agreement with Jap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XIS Power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Italy, Japan, and German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 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29000" y="1066680"/>
            <a:ext cx="55627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July 1936, Gener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ncisco Fran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d a revolt in Sp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become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nish Civil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my leaders wanted a fascist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tler and Mussolini sent troops, tanks, and airplanes to help Franco’s forc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ork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o becomes the fascist dictator of Spai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Francisco Franco.jpg"/>
          <p:cNvPicPr/>
          <p:nvPr/>
        </p:nvPicPr>
        <p:blipFill>
          <a:blip r:embed="rId1"/>
          <a:stretch/>
        </p:blipFill>
        <p:spPr>
          <a:xfrm>
            <a:off x="457200" y="1447920"/>
            <a:ext cx="2286000" cy="3051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Spanish Civil War.jpg"/>
          <p:cNvPicPr/>
          <p:nvPr/>
        </p:nvPicPr>
        <p:blipFill>
          <a:blip r:embed="rId2"/>
          <a:stretch/>
        </p:blipFill>
        <p:spPr>
          <a:xfrm>
            <a:off x="152280" y="4114800"/>
            <a:ext cx="320040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as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1294920"/>
            <a:ext cx="8763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tish and French Governments urge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easem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ease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Giving in to an aggressor to keep the pe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uropean nations still recovering from WW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dn’t have resources to stand up to Germa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rSeuss"/>
          <p:cNvPicPr/>
          <p:nvPr/>
        </p:nvPicPr>
        <p:blipFill>
          <a:blip r:embed="rId1"/>
          <a:stretch/>
        </p:blipFill>
        <p:spPr>
          <a:xfrm>
            <a:off x="2666880" y="3352680"/>
            <a:ext cx="38242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olatio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ted States chose Isolationis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solationis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political ties should be avoid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se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utrality Act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t banned loans and sales of arms to nations at war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FDR WWII.jpg"/>
          <p:cNvPicPr/>
          <p:nvPr/>
        </p:nvPicPr>
        <p:blipFill>
          <a:blip r:embed="rId1"/>
          <a:stretch/>
        </p:blipFill>
        <p:spPr>
          <a:xfrm>
            <a:off x="2514600" y="3352680"/>
            <a:ext cx="38862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3:24:02Z</dcterms:created>
  <dc:creator>HP Authorized Customer</dc:creator>
  <dc:description/>
  <dc:language>en-US</dc:language>
  <cp:lastModifiedBy>Jessica Taylor</cp:lastModifiedBy>
  <dcterms:modified xsi:type="dcterms:W3CDTF">2012-12-18T15:00:29Z</dcterms:modified>
  <cp:revision>10</cp:revision>
  <dc:subject/>
  <dc:title>German Aggression</dc:title>
</cp:coreProperties>
</file>