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F47-3A9D-4523-B77F-FD442C14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F4A-DC21-421E-AC25-6404852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1D4-E0F4-4711-8843-91F67C2C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D06-B405-41AF-A0F6-4510D6DF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6FE-50A0-4084-B741-0E9A99C8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199-CA39-438D-9BF3-9E5C08AF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2F2-CA85-4574-8D47-D4A6BBD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4DF-085B-4EC7-8EC4-4F395015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FBF-4C36-403B-8FEB-494F5DB8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AC6-C742-44F9-B44E-EF75BA61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D67-AC69-452E-948A-8177B24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693-15B4-4F3A-AEE3-8F59280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A407-C159-4182-AB5C-045DAC4E2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ssors invade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Beaches of NOrmandy.jpg"/>
          <p:cNvPicPr/>
          <p:nvPr/>
        </p:nvPicPr>
        <p:blipFill>
          <a:blip r:embed="rId1"/>
          <a:stretch/>
        </p:blipFill>
        <p:spPr>
          <a:xfrm>
            <a:off x="1371600" y="1447920"/>
            <a:ext cx="6694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ia and Czechoslovak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announced his plans to absorb Austria and Czechoslovakia in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Re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erman emp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ia (1938) - Germans in Austria basically let Germany tak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nich Confer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pt. 29, 1938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met to try to preserve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into Hitler's de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pledged to not t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oslova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months later…Ger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Czechoslovaki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unich agreement"/>
          <p:cNvPicPr/>
          <p:nvPr/>
        </p:nvPicPr>
        <p:blipFill>
          <a:blip r:embed="rId1"/>
          <a:stretch/>
        </p:blipFill>
        <p:spPr>
          <a:xfrm>
            <a:off x="5791320" y="4114800"/>
            <a:ext cx="311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939 german map"/>
          <p:cNvPicPr/>
          <p:nvPr/>
        </p:nvPicPr>
        <p:blipFill>
          <a:blip r:embed="rId1"/>
          <a:stretch/>
        </p:blipFill>
        <p:spPr>
          <a:xfrm>
            <a:off x="1143000" y="228600"/>
            <a:ext cx="701028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Non-Aggression 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Aggression Pa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ug. 23, 1939) - USSR and Germany agreed to never attack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itler is a li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des Pola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and Great Brit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Wa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talin"/>
          <p:cNvPicPr/>
          <p:nvPr/>
        </p:nvPicPr>
        <p:blipFill>
          <a:blip r:embed="rId1"/>
          <a:stretch/>
        </p:blipFill>
        <p:spPr>
          <a:xfrm>
            <a:off x="5410080" y="2590920"/>
            <a:ext cx="3260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league_of_nations_10"/>
          <p:cNvPicPr/>
          <p:nvPr/>
        </p:nvPicPr>
        <p:blipFill>
          <a:blip r:embed="rId2"/>
          <a:stretch/>
        </p:blipFill>
        <p:spPr>
          <a:xfrm>
            <a:off x="2438280" y="380880"/>
            <a:ext cx="449604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46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WWII Neutrality Acts.jpg"/>
          <p:cNvPicPr/>
          <p:nvPr/>
        </p:nvPicPr>
        <p:blipFill>
          <a:blip r:embed="rId1"/>
          <a:stretch/>
        </p:blipFill>
        <p:spPr>
          <a:xfrm>
            <a:off x="2666880" y="457200"/>
            <a:ext cx="43624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itary Ag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240" y="1294920"/>
            <a:ext cx="60958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mid-1930s, the nations of the world were divided into two groups – democratic and totalita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tic = Britain, France, and United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itar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Italy, Germany, Russi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cist dictatorships were willing to use military ag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129440" y="914400"/>
            <a:ext cx="2014560" cy="245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6740640" y="2743200"/>
            <a:ext cx="2403360" cy="24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7338960" y="4800600"/>
            <a:ext cx="1805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 want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240" y="1219320"/>
            <a:ext cx="6248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reat depression hit in 1929, many Japanese blamed the government and this led to military control of the count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jo Hidek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control of Japan, but k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eror Hirohi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head of the 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itarists like Hideki planned a Pacific Empire for to make Japan a symbol of power and take over other countries (imperialis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nted raw materials and markets for their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781680" y="1219320"/>
            <a:ext cx="196236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Emperor Hirohito.bmp"/>
          <p:cNvPicPr/>
          <p:nvPr/>
        </p:nvPicPr>
        <p:blipFill>
          <a:blip r:embed="rId2"/>
          <a:stretch/>
        </p:blipFill>
        <p:spPr>
          <a:xfrm>
            <a:off x="6477120" y="3505320"/>
            <a:ext cx="24764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 Invades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6200" y="990360"/>
            <a:ext cx="5029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1, Japan invad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chu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gion of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gue of Nations was viola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gue members protested Japans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pan ignored and withdrew from the League in 193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5, Japanese forces invaded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jing and Nanjing fell to the Japan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panese troops killed tens of thousands of captured soldiers and civilians (people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WWII Japanese Imperialism.png"/>
          <p:cNvPicPr/>
          <p:nvPr/>
        </p:nvPicPr>
        <p:blipFill>
          <a:blip r:embed="rId1"/>
          <a:stretch/>
        </p:blipFill>
        <p:spPr>
          <a:xfrm>
            <a:off x="228600" y="1066680"/>
            <a:ext cx="3270240" cy="380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WWII Japanese Manchuria.jpg"/>
          <p:cNvPicPr/>
          <p:nvPr/>
        </p:nvPicPr>
        <p:blipFill>
          <a:blip r:embed="rId2"/>
          <a:stretch/>
        </p:blipFill>
        <p:spPr>
          <a:xfrm>
            <a:off x="304920" y="4191120"/>
            <a:ext cx="3609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uropean Aggre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286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s on the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2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gue of Nation’s failure to stop the Japanese encouraged European fasc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solini (Italy) invaded Ethi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tler (Germany) ignores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aty of Versail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e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m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nd build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ades France to get back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st la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m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ian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with Ital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me-Berlin Axis (October 1936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alliance formed between Germany and Ita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also made an agreement with Jap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XIS Power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Italy, Japan, and Germa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29000" y="1066680"/>
            <a:ext cx="5562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uly 1936, Gener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isco Fran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d a revolt in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becom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ish Civil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y leaders wanted a fascis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and Mussolini sent troops, tanks, and airplanes to help Franco’s for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ork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o becomes the fascist dictator of S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Francisco Franco.jpg"/>
          <p:cNvPicPr/>
          <p:nvPr/>
        </p:nvPicPr>
        <p:blipFill>
          <a:blip r:embed="rId1"/>
          <a:stretch/>
        </p:blipFill>
        <p:spPr>
          <a:xfrm>
            <a:off x="457200" y="1447920"/>
            <a:ext cx="2286000" cy="305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panish Civil War.jpg"/>
          <p:cNvPicPr/>
          <p:nvPr/>
        </p:nvPicPr>
        <p:blipFill>
          <a:blip r:embed="rId2"/>
          <a:stretch/>
        </p:blipFill>
        <p:spPr>
          <a:xfrm>
            <a:off x="152280" y="4114800"/>
            <a:ext cx="32004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tish and French Governments urg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easem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ase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Giving in to an aggressor to keep the pe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ropean nations still recovering from WW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dn’t have resources to stand up to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Seuss"/>
          <p:cNvPicPr/>
          <p:nvPr/>
        </p:nvPicPr>
        <p:blipFill>
          <a:blip r:embed="rId1"/>
          <a:stretch/>
        </p:blipFill>
        <p:spPr>
          <a:xfrm>
            <a:off x="2666880" y="3352680"/>
            <a:ext cx="3824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ed States chose Isolatio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olation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political ties should be avoi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utrality Ac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banned loans and sales of arms to nations at war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FDR WWII.jpg"/>
          <p:cNvPicPr/>
          <p:nvPr/>
        </p:nvPicPr>
        <p:blipFill>
          <a:blip r:embed="rId1"/>
          <a:stretch/>
        </p:blipFill>
        <p:spPr>
          <a:xfrm>
            <a:off x="2514600" y="3352680"/>
            <a:ext cx="38862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3:24:02Z</dcterms:created>
  <dc:creator>HP Authorized Customer</dc:creator>
  <dc:description/>
  <dc:language>en-US</dc:language>
  <cp:lastModifiedBy>Jessica Taylor</cp:lastModifiedBy>
  <dcterms:modified xsi:type="dcterms:W3CDTF">2012-12-18T15:00:29Z</dcterms:modified>
  <cp:revision>10</cp:revision>
  <dc:subject/>
  <dc:title>German Aggression</dc:title>
</cp:coreProperties>
</file>